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9864-2C8C-4792-8E91-9C2BC015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E60-A233-4883-9D2C-498D2EC9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62B8-D684-4216-8B37-A5242264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C9D5-16CD-4187-BEFA-4DC169CF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0462-26B4-46DB-8A8B-0A91F29A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AF05-9556-4E63-A3C1-8CAB728C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077D-5C56-448A-AD1D-8FA92BF2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6FAB-9994-4C30-A9CE-A915D5F9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CC83-E4DF-4D03-ACE7-C19C2BFD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DC2C-A55E-4963-A56A-B7FF1C6A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03B0-0D13-4D17-9DE6-8516FA54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0399-9697-4E7D-A312-6F1CAC94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2EC4-7506-4743-A5E2-F626175E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16EA-FD59-415A-9423-4723460A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BBE9-E05E-4042-8667-5DA0F8B2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E056-5B5D-4CE7-87E8-F3468176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9C96-7357-4409-B99B-89CA0777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0812-10BC-4DB1-8F05-83CC512C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9C7C-9C2F-4832-949C-2E19701C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C76F-8E93-44CA-8D63-5EDF1EE9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4076-20D0-4D90-B0F9-6419B57A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D845-EC13-457D-9E3C-6CFABD6E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FABF-3749-4E43-8B8D-EF83042D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17D0-CFEE-4860-895F-DC7757B0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25E2-1628-4F23-84AB-5B8CB76047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ABBC-0951-4C34-A636-244233DF2D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244600" y="3803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ship 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 Max Konovalo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S 3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22440" y="1265400"/>
            <a:ext cx="390204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0200" y="382680"/>
            <a:ext cx="779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DF String Wri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82600" y="1211400"/>
            <a:ext cx="6686640" cy="424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36560" y="2892600"/>
            <a:ext cx="72979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umbnails Gener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ize all files in folder and subf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for files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aspect rat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y padding co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waterma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command-line parame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ve settings into *.INI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umbnails Gener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17680" y="1886040"/>
            <a:ext cx="641196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umbnails Generator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82640" y="2093760"/>
            <a:ext cx="599148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46000" y="304920"/>
            <a:ext cx="77932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umbnails Generator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17600" y="1432080"/>
            <a:ext cx="69627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8280" y="277560"/>
            <a:ext cx="77929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umbnails Gener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47920" y="1184400"/>
            <a:ext cx="6367320" cy="45939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51000" y="6004080"/>
            <a:ext cx="841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vailable at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Tahoma"/>
              </a:rPr>
              <a:t>http://www.math.uaa.alaska.edu/~konovalm/cs395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bsi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an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P with VB Scr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ODB + MS SQL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 Basic 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S SQL Server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 life hands-on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5135400"/>
            <a:ext cx="85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Tahoma"/>
              </a:rPr>
              <a:t>http://www.math.uaa.alaska.edu/~konovalm/cs395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ny 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ed in 195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wide services since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% of the Anchorage Realto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9% of the Valley Real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% of the Kenai Peninsula Real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% of the Kachemak Real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% of the Kodiak Real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brokerages in Cordova, Haines, Fairbanks, Juneau, Ketchikan, Petersburg, Seward, and Valdez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 Estate Business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s, forms, calculator, organizer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ical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lpde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 Estate Listings Data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yldFyr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lexM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amming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 Basic 6 / VS 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S SQL Server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S ADOD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BA (MS Access 2000 / 199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S FrontPag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lex to WyldFyre conver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S Access Limi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!&gt; 255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!&gt; 2 Gb file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Solution – Flat T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9200" y="260280"/>
            <a:ext cx="77929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B Explorer (Scann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6840" y="1162080"/>
            <a:ext cx="903132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arage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77840" y="1941480"/>
            <a:ext cx="73501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arage” – table 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2120" y="2106720"/>
            <a:ext cx="88362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cture “Grabber” D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Binary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 the file header (JPG or B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 File Size and Save it if correct, otherwise, return 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edit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BA (MS Access 20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LL (to be used with MS Access 9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06:17:25Z</dcterms:created>
  <dc:creator>user</dc:creator>
  <dc:description/>
  <dc:language>en-US</dc:language>
  <cp:lastModifiedBy>user</cp:lastModifiedBy>
  <dcterms:modified xsi:type="dcterms:W3CDTF">2006-04-24T03:49:04Z</dcterms:modified>
  <cp:revision>20</cp:revision>
  <dc:subject/>
  <dc:title>Alaska MLS</dc:title>
</cp:coreProperties>
</file>