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9294813" cy="12344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3FE-8371-484D-AB6C-7F1A4AF9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23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D3E-14F1-42F8-A3A5-008550A8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939-E5C1-4F0B-A697-A68378D9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355-26B1-4097-BB0E-3686890F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F8B-1167-4322-97D9-C085990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62D-50D3-4938-A79A-B616B9F2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001-633D-45F6-9B55-01C4FF9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98A-A50B-46A0-B69C-6B73392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C36-C277-487C-9EDE-F536FA3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FC4-8737-456C-B414-55F2106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07C-A5E6-401C-A078-88E9C86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236-FBEB-4AA5-8252-0751B6F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7D1-1277-408E-93DC-A929907F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Layer: TCP/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4,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check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45600" y="2347920"/>
            <a:ext cx="412452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segment contents as sequence of 16-bit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: addition (1’s complement sum) of segment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s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o app with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- no error detec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ct “errors”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Oriented Transport Protoc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connection-oriented Transpor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-Oriented Transport via Reliable Networ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Layer Services like TCP are complicated – to start, let’s first assume we are working with a reliable network lay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P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P is 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a Simple Transpro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a reliable network layer, then the transport layer must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40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a socket in TCP/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represents a particular transport service (TS), e.g. HTT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protocol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internet, a global internet address (IP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ll-known address or lookup via na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employ same transpor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ed by port number or service access point (S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d previ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ifficult than flow control at the data link layer – data is likely traveling across many networks, not one network.  Some potenti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transmission delay between transport entities compared with actual transmiss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in communication of flow control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ransmission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use 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ing user cannot keep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ing transport entity cannot keep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ither happens, the results is a buffer that can get full and eventually lo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of Frame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1747080" y="114300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 for Frame/Packe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35800" y="617220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use this model to discuss flow contro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that overflow are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transport entity will fail to get ACK and will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further adding to incoming data and could exacerbate the flow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use further segments from networ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ed connections are controlled on aggregate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tocol:  Stop-and-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must wait for recipient to send ACK before sending the nex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very efficient usage of the network, only one outstanding message can be in transit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ell on reliabl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receive ACK is taken as flow control in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work well on unreliabl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distinguish between lost segment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ransport layer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less transport: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transport: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= How much data sender ca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ding window idea, sender can send a number of frames up to the window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sends single ACK that acknowledges all previou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varies based on credi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can control credit of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cknowledgement, receiver could change the window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network usage, allows outstanding messages to be in transit than Stop-And-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on unreliab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uples flow control from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ACK without granting credit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ctet has 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port segment has a sequence number, acknowledgement number and window size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ing Window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n acknowledge frames without permitting further transmission (Receive Not Rea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ll duplex two-way communications, we need two windows: one for transmit and one for r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ing – if sending data and acknowledgement frame, combin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than stop-and-wait since many frames may be in the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lid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485680" y="43434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 N=Receive Ready o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121932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Header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redit-based window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nding, Sequence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 includes AN=i (Acknowledgement Number), W=j (Window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 Alloc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510640" y="64008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octets per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62560" y="121932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 initially “synch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ment and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a reliable network service, both ends need to “set up” the conn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each end to know the other exists and is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of optional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Segme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space al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 connectio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State Diagram – Reliable Network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048120" y="1447920"/>
            <a:ext cx="1371600" cy="6858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86600" y="1600200"/>
            <a:ext cx="1371600" cy="6858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10280" y="28954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=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=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the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a SYN received while not in the Listen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can be terminated by sending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ceful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_WAIT state and FIN_WAIT must accept incoming data until FIN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both sides have received all outstanding data and that both sides agree to connection termination before actual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services and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application processes running on different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protocols run in end systems via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port vs network layer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: data transfer between e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layer: data transfer between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, enhances, network layer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59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63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72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82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96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114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117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124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133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154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168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178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182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192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196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210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220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224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234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238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248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252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262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267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275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283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289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295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301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307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313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iable Network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look at the more general case if we are building our transport service on top of an unreliable network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reliable network service makes the transport layer much more complicated if we want to ensure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unreliable network servic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ed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ansmiss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ion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ed 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actually numbers segments starting at a random val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possibility that a segment still in the network from an earlier, terminated connection between the same hosts is mistaken for a valid segment in a later connection (who would also have to happen to use the same port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-transmit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damaged in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fails to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to wait until re-transmit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duplic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Unnecessary delay delive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r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407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 bit longer than Round Trip Time (R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et timer to average of previous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may not ACK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distinguish between ACK of original segment and re-transmitted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may change sudde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ion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possible to receive a duplicate after closing the conn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28600" y="3505320"/>
            <a:ext cx="432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lustrates need for the sequence number space to be larger than the maximum possible segment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68360" y="57150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cycle back to S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credit allocation described ear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ttle harm if a single ACK/Credit segment is lost, will resynchronize the nex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B sends AN=i, W=0 closing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, B sends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window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imer expires, send something to break the dead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 SYN, B replies with S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SYN handled by re-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duplicate SY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duplicate SYNs once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or delayed data segments can cause connec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from o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ole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-layer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net transport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, in-order unicast delivery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(“best-effort”), unordered unicast or multicast delivery: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not avail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 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le multic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331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335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344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354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363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368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386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389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392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396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405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426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436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440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450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454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464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468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474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478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482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488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492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496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506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510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520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524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530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539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547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555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561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567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573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579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585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Way 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olete SYN 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5314320" y="3886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expects S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32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nts new connection, picks S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 – Three Way Handsh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Explicitly acknowledge each other’s SYN and 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CK to includ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the Three Way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317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blems we had with connection establishment can also occur with connection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or obsolete F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lose last data segment if FIN arrives before last data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ssociate sequence number with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waits for all segments before FIN 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explicitly ACK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ful C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FIN i and receive 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FIN j and send AN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twice maximum expected segment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ransport service crashes and restarts, after restart all state info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lf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:Overvie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s: 793, 1122, 1323, 2018, 25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809600" y="1552320"/>
            <a:ext cx="395316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ll duplex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-directional data flow in sam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S: maximum seg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haking (exchange of control msgs) init’s sender, receiver state before data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ow contro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will not overwhelm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71680" y="1542600"/>
            <a:ext cx="400032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-to-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nder, one receiver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iable, in-ord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yte stre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message boundari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pel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congestion and flow control set window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nd &amp; receive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-490680" y="5421240"/>
          <a:ext cx="602640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90680" y="5421240"/>
                    <a:ext cx="602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orientation. stream of OCTETS (bytes) passed between send/ re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e stream is full du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of it as two independent streams joined wit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ggybac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ing - one data stream has control info for the other data stream (going the other 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doesn’t show packet boundaries t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you can still structure your message if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usage with soc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rite() call to se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quire multiple read()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segment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2748240" y="1374840"/>
            <a:ext cx="4100040" cy="5330880"/>
            <a:chOff x="2748240" y="1374840"/>
            <a:chExt cx="4100040" cy="5330880"/>
          </a:xfrm>
        </p:grpSpPr>
        <p:sp>
          <p:nvSpPr>
            <p:cNvPr id="864" name=""/>
            <p:cNvSpPr/>
            <p:nvPr/>
          </p:nvSpPr>
          <p:spPr>
            <a:xfrm>
              <a:off x="2896920" y="178452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811240" y="190044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94760" y="186552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urce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97520" y="187020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t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14480" y="227484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08000" y="2654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754520" y="19000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78960" y="13748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97400" y="161604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88560" y="162720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05200" y="4845240"/>
              <a:ext cx="212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44840" y="225432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quence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17720" y="30355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4520" y="26542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cknowledge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13040" y="343080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08000" y="38210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08000" y="43830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4768560" y="303804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64600" y="3046320"/>
              <a:ext cx="196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cvr window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894920" y="344160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urgen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56120" y="34228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43200" y="3075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611600" y="30286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44960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28292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120920" y="303840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96396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792240" y="30430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78680" y="30704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03720" y="307044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38480" y="30654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83320" y="3065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11960" y="30654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48240" y="297180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29560" y="297180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28752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00040" y="3925800"/>
              <a:ext cx="31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ions 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361800" y="170352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95760" y="24271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0680" y="310356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4680" y="3903840"/>
            <a:ext cx="20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71680" y="207180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43240" y="274788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352600" y="310032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90760" y="337644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435800" y="328464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14680" y="179856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6840" y="523728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266920" y="370008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686280" y="329040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620040" y="199548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1520" y="198612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6953040" y="4483080"/>
            <a:ext cx="1105920" cy="1212480"/>
            <a:chOff x="6953040" y="4483080"/>
            <a:chExt cx="1105920" cy="1212480"/>
          </a:xfrm>
        </p:grpSpPr>
        <p:sp>
          <p:nvSpPr>
            <p:cNvPr id="590" name=""/>
            <p:cNvSpPr/>
            <p:nvPr/>
          </p:nvSpPr>
          <p:spPr>
            <a:xfrm>
              <a:off x="7056720" y="4483080"/>
              <a:ext cx="973080" cy="1161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21080" y="4534200"/>
              <a:ext cx="972000" cy="116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017120" y="477864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031160" y="500400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031160" y="5218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7013520" y="5452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53040" y="4538520"/>
              <a:ext cx="110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927840" y="4178160"/>
            <a:ext cx="743040" cy="439920"/>
            <a:chOff x="6927840" y="4178160"/>
            <a:chExt cx="743040" cy="439920"/>
          </a:xfrm>
        </p:grpSpPr>
        <p:sp>
          <p:nvSpPr>
            <p:cNvPr id="598" name=""/>
            <p:cNvSpPr/>
            <p:nvPr/>
          </p:nvSpPr>
          <p:spPr>
            <a:xfrm>
              <a:off x="6927840" y="41781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89840" y="42735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570440" y="40593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329360" y="3816360"/>
            <a:ext cx="1232280" cy="1308240"/>
            <a:chOff x="4329360" y="3816360"/>
            <a:chExt cx="1232280" cy="1308240"/>
          </a:xfrm>
        </p:grpSpPr>
        <p:sp>
          <p:nvSpPr>
            <p:cNvPr id="602" name=""/>
            <p:cNvSpPr/>
            <p:nvPr/>
          </p:nvSpPr>
          <p:spPr>
            <a:xfrm>
              <a:off x="4425120" y="3816360"/>
              <a:ext cx="112752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83720" y="3871800"/>
              <a:ext cx="112608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379400" y="4134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395240" y="4377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395240" y="46098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374720" y="48621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29360" y="385128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9960" y="1143000"/>
            <a:ext cx="381024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gment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it of data exchanged between transport layer ent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TPDU: transport protocol data unit or “packe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30440" y="3011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34960" y="4873680"/>
            <a:ext cx="673200" cy="19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41440" y="5113440"/>
            <a:ext cx="679320" cy="19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66920" y="48308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81040" y="48657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143000" y="5081760"/>
            <a:ext cx="331560" cy="306360"/>
            <a:chOff x="1143000" y="5081760"/>
            <a:chExt cx="331560" cy="306360"/>
          </a:xfrm>
        </p:grpSpPr>
        <p:sp>
          <p:nvSpPr>
            <p:cNvPr id="617" name=""/>
            <p:cNvSpPr/>
            <p:nvPr/>
          </p:nvSpPr>
          <p:spPr>
            <a:xfrm>
              <a:off x="1203120" y="5113080"/>
              <a:ext cx="24120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43000" y="50817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58920" y="511164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657680" y="1598760"/>
            <a:ext cx="34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multiplex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iv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d segment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ct app lay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1571760"/>
            <a:ext cx="37530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80240" y="506556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9480" y="47498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1480" y="4876920"/>
            <a:ext cx="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57440" y="4873680"/>
            <a:ext cx="43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100240" y="4530600"/>
            <a:ext cx="1232280" cy="1308240"/>
            <a:chOff x="2100240" y="4530600"/>
            <a:chExt cx="1232280" cy="1308240"/>
          </a:xfrm>
        </p:grpSpPr>
        <p:sp>
          <p:nvSpPr>
            <p:cNvPr id="627" name=""/>
            <p:cNvSpPr/>
            <p:nvPr/>
          </p:nvSpPr>
          <p:spPr>
            <a:xfrm>
              <a:off x="2196000" y="4530600"/>
              <a:ext cx="112788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54600" y="4586040"/>
              <a:ext cx="112644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150280" y="48492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66120" y="509220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166120" y="532404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145600" y="55764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00240" y="456552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227680" y="40402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098800" y="4330800"/>
            <a:ext cx="742680" cy="439560"/>
            <a:chOff x="2098800" y="4330800"/>
            <a:chExt cx="742680" cy="439560"/>
          </a:xfrm>
        </p:grpSpPr>
        <p:sp>
          <p:nvSpPr>
            <p:cNvPr id="636" name=""/>
            <p:cNvSpPr/>
            <p:nvPr/>
          </p:nvSpPr>
          <p:spPr>
            <a:xfrm>
              <a:off x="2098800" y="43308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0440" y="44258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397240" y="3919680"/>
            <a:ext cx="2385720" cy="2081160"/>
          </a:xfrm>
          <a:custGeom>
            <a:avLst/>
            <a:gdLst/>
            <a:ahLst/>
            <a:rect l="l" t="t" r="r" b="b"/>
            <a:pathLst>
              <a:path w="1503" h="1311">
                <a:moveTo>
                  <a:pt x="0" y="502"/>
                </a:moveTo>
                <a:lnTo>
                  <a:pt x="0" y="1311"/>
                </a:lnTo>
                <a:lnTo>
                  <a:pt x="1503" y="1308"/>
                </a:lnTo>
                <a:lnTo>
                  <a:pt x="1502" y="237"/>
                </a:lnTo>
                <a:lnTo>
                  <a:pt x="140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051440" y="3483000"/>
            <a:ext cx="742680" cy="439560"/>
            <a:chOff x="4051440" y="3483000"/>
            <a:chExt cx="742680" cy="439560"/>
          </a:xfrm>
        </p:grpSpPr>
        <p:sp>
          <p:nvSpPr>
            <p:cNvPr id="640" name=""/>
            <p:cNvSpPr/>
            <p:nvPr/>
          </p:nvSpPr>
          <p:spPr>
            <a:xfrm>
              <a:off x="4051440" y="34830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13080" y="35780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886280" y="3843360"/>
            <a:ext cx="2428920" cy="1995480"/>
          </a:xfrm>
          <a:custGeom>
            <a:avLst/>
            <a:gdLst/>
            <a:ahLst/>
            <a:rect l="l" t="t" r="r" b="b"/>
            <a:pathLst>
              <a:path w="1530" h="1257">
                <a:moveTo>
                  <a:pt x="1525" y="458"/>
                </a:moveTo>
                <a:lnTo>
                  <a:pt x="1530" y="1257"/>
                </a:lnTo>
                <a:lnTo>
                  <a:pt x="0" y="1257"/>
                </a:lnTo>
                <a:lnTo>
                  <a:pt x="0" y="235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94280" y="3492360"/>
            <a:ext cx="743040" cy="439920"/>
            <a:chOff x="4994280" y="3492360"/>
            <a:chExt cx="743040" cy="439920"/>
          </a:xfrm>
        </p:grpSpPr>
        <p:sp>
          <p:nvSpPr>
            <p:cNvPr id="644" name=""/>
            <p:cNvSpPr/>
            <p:nvPr/>
          </p:nvSpPr>
          <p:spPr>
            <a:xfrm>
              <a:off x="4994280" y="34923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6280" y="35877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722400" y="32544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08080" y="33256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81160" y="4962600"/>
            <a:ext cx="209520" cy="9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6880" y="401652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85920" y="4362480"/>
            <a:ext cx="247680" cy="48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57440" y="3800520"/>
            <a:ext cx="190440" cy="105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73160" y="3435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pplication-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, Destination Port: 16 bit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# of first data octet in the segment, initialized randomly as described 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 Number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ed ACK, contains sequence number of the next data octet the receiver ex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Len: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32 bit words in th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sed: 6 bits for futur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s – 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 – Urgent Pointer field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 – Ack field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H – Push  (flush or “push” buffer now, send data to 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T – Reset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– Synchronize sequenc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– No mo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ontrol credit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um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’s complement sum as in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nt Pointer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octet in a seq of “urgent” data.   Sometimes not interpreted.  Urgent data should be processed now, even before any data sitting in the buffer (e.g. send control-c to termin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s –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timestamping, negotiating 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q. #’s and 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eq. #’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stream “number” of first byte in segment’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 # of next byte expected from oth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ulativ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w does the receiver handles out-of-order seg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TCP spec doesn’t say, - up to imple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807440" y="146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7080" y="1450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026960" y="1932120"/>
            <a:ext cx="6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12400" y="4046400"/>
            <a:ext cx="113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495560" y="258912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 ‘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8289720" y="5527800"/>
            <a:ext cx="665280" cy="368280"/>
            <a:chOff x="8289720" y="5527800"/>
            <a:chExt cx="665280" cy="368280"/>
          </a:xfrm>
        </p:grpSpPr>
        <p:sp>
          <p:nvSpPr>
            <p:cNvPr id="937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89720" y="55278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537660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94900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piggyback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2040" y="161640"/>
            <a:ext cx="736308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: retransmission scen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55520" y="1389240"/>
            <a:ext cx="3489120" cy="4821120"/>
            <a:chOff x="155520" y="1389240"/>
            <a:chExt cx="3489120" cy="4821120"/>
          </a:xfrm>
        </p:grpSpPr>
        <p:sp>
          <p:nvSpPr>
            <p:cNvPr id="948" name=""/>
            <p:cNvSpPr/>
            <p:nvPr/>
          </p:nvSpPr>
          <p:spPr>
            <a:xfrm flipH="1">
              <a:off x="1857240" y="2781360"/>
              <a:ext cx="1581120" cy="48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14400" y="2057400"/>
              <a:ext cx="253332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0" name="" descr=""/>
            <p:cNvPicPr/>
            <p:nvPr/>
          </p:nvPicPr>
          <p:blipFill>
            <a:blip r:embed="rId1"/>
            <a:stretch/>
          </p:blipFill>
          <p:spPr>
            <a:xfrm>
              <a:off x="501480" y="1389240"/>
              <a:ext cx="4856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932040" y="138924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706200">
              <a:off x="1290600" y="206856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17200">
              <a:off x="2182320" y="27540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95440" y="3317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6200000">
              <a:off x="249840" y="2864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5640" y="1695600"/>
              <a:ext cx="0" cy="45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155520" y="5508720"/>
              <a:ext cx="665280" cy="368280"/>
              <a:chOff x="155520" y="5508720"/>
              <a:chExt cx="665280" cy="368280"/>
            </a:xfrm>
          </p:grpSpPr>
          <p:sp>
            <p:nvSpPr>
              <p:cNvPr id="958" name=""/>
              <p:cNvSpPr/>
              <p:nvPr/>
            </p:nvSpPr>
            <p:spPr>
              <a:xfrm>
                <a:off x="218880" y="5581440"/>
                <a:ext cx="514440" cy="2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5520" y="5508720"/>
                <a:ext cx="66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1157760" y="562284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st ACK sce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2"/>
            <a:stretch/>
          </p:blipFill>
          <p:spPr>
            <a:xfrm>
              <a:off x="3159000" y="139860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2445120" y="1408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08120" y="3040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14400" y="3924360"/>
              <a:ext cx="253332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706200">
              <a:off x="1204920" y="386892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46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2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923760" y="470556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20673000">
              <a:off x="1733760" y="478908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733320" y="2037960"/>
              <a:ext cx="0" cy="6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2680" y="343872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808200">
            <a:off x="5979240" y="2421000"/>
            <a:ext cx="20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16200000">
            <a:off x="4872600" y="278388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92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041800" y="5460840"/>
            <a:ext cx="665280" cy="368280"/>
            <a:chOff x="5041800" y="5460840"/>
            <a:chExt cx="665280" cy="368280"/>
          </a:xfrm>
        </p:grpSpPr>
        <p:sp>
          <p:nvSpPr>
            <p:cNvPr id="979" name=""/>
            <p:cNvSpPr/>
            <p:nvPr/>
          </p:nvSpPr>
          <p:spPr>
            <a:xfrm>
              <a:off x="510516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41800" y="54608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915880" y="55753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mature timeo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mulativ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706200">
            <a:off x="6062760" y="379260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706200">
            <a:off x="6091560" y="201132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4585320" y="320796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100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378400" y="2371680"/>
            <a:ext cx="64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126520" y="62485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must be smart enough to ignore duplicat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95320" y="1504800"/>
            <a:ext cx="30574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Flow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e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licitly informs sender of (dynamically changing) amount of free buffer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CP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nd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eps the amount of transmitted, unACKed data less than most recently receiv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81000" y="1655640"/>
            <a:ext cx="287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’s buffers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ing too mu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962640" y="1274760"/>
            <a:ext cx="1886040" cy="459720"/>
            <a:chOff x="962640" y="1274760"/>
            <a:chExt cx="1886040" cy="459720"/>
          </a:xfrm>
        </p:grpSpPr>
        <p:sp>
          <p:nvSpPr>
            <p:cNvPr id="1007" name=""/>
            <p:cNvSpPr/>
            <p:nvPr/>
          </p:nvSpPr>
          <p:spPr>
            <a:xfrm>
              <a:off x="1018800" y="1314360"/>
              <a:ext cx="180036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62640" y="127476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low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9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1401480" y="60642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buff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7120" y="3262320"/>
            <a:ext cx="40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size or TCP Receiv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amount of spare room in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Round Trip Time and Time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61440" y="1304640"/>
            <a:ext cx="36226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o set TCP timeout val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than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TT will 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prematur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cessary re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slow reaction to segmen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retransmissions, cumulatively ACKed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vary, want estimated RTT “smooth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veral recent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Round Trip Time and Time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4920" y="14637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x)*EstimatedRTT + x*Sampl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90680" y="191448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given sample decreases exponential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value of x: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1853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etting the time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“safety marg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riation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rger safety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77960" y="563868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 = EstimatedRTT + 4*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 Connection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hree way handshak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end system sends TCP SYN control segment to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initial seq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end system receives SYN, replies with SYNACK control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s received S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s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server-&gt; receiver initial seq.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 Connection Managemen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37960" y="1392120"/>
            <a:ext cx="42436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Closing a conn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d system sends TCP FIN control segment to server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s FIN, replies with ACK. Closes connection, sends F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3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s FIN, replies with A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s “timed wait” - will respond with ACK to received F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ceives ACK.  Connection clo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311720" y="1731960"/>
            <a:ext cx="4264560" cy="4187880"/>
            <a:chOff x="4311720" y="1731960"/>
            <a:chExt cx="4264560" cy="4187880"/>
          </a:xfrm>
        </p:grpSpPr>
        <p:sp>
          <p:nvSpPr>
            <p:cNvPr id="1025" name=""/>
            <p:cNvSpPr/>
            <p:nvPr/>
          </p:nvSpPr>
          <p:spPr>
            <a:xfrm>
              <a:off x="5391000" y="240048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4978440" y="173196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5466240" y="173196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706200">
              <a:off x="6482520" y="244152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7635960" y="174132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6937200" y="1751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0720" y="443880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29360" y="4295880"/>
              <a:ext cx="0" cy="13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24680" y="2171880"/>
              <a:ext cx="0" cy="340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5362560" y="313380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0673000">
              <a:off x="5241960" y="322848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706200">
              <a:off x="6367680" y="4443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410080" y="354348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0673000">
              <a:off x="5289480" y="363816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81640" y="2324160"/>
              <a:ext cx="0" cy="334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7960" y="2203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48360" y="33368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311720" y="55515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24600" y="42768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38640" y="565776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6200000">
              <a:off x="4376520" y="480312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 wa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les of Congestio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75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g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ly: “too many sources sending too much data too fas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and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9920" y="2859120"/>
            <a:ext cx="42958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xing/demultiplex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ender, receiver port numbers, IP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, dest port #s in each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: well-known port numbers for specific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1520" y="1343160"/>
            <a:ext cx="365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ing data from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processes, envelo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with header (later u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emultiplex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9200" y="1278000"/>
            <a:ext cx="361008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93000" y="1066680"/>
            <a:ext cx="1738080" cy="398880"/>
            <a:chOff x="693000" y="1066680"/>
            <a:chExt cx="1738080" cy="398880"/>
          </a:xfrm>
        </p:grpSpPr>
        <p:sp>
          <p:nvSpPr>
            <p:cNvPr id="671" name=""/>
            <p:cNvSpPr/>
            <p:nvPr/>
          </p:nvSpPr>
          <p:spPr>
            <a:xfrm>
              <a:off x="743040" y="1096920"/>
              <a:ext cx="15904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" y="10666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ultiplexi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47680" y="1447560"/>
            <a:ext cx="31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enders, two rece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outer, infinite buff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039000" y="4172040"/>
            <a:ext cx="2790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elays when cong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hieva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congestion0" descr=""/>
          <p:cNvPicPr/>
          <p:nvPr/>
        </p:nvPicPr>
        <p:blipFill>
          <a:blip r:embed="rId1"/>
          <a:stretch/>
        </p:blipFill>
        <p:spPr>
          <a:xfrm>
            <a:off x="3414600" y="1547640"/>
            <a:ext cx="5365800" cy="2129040"/>
          </a:xfrm>
          <a:prstGeom prst="rect">
            <a:avLst/>
          </a:prstGeom>
          <a:ln w="0">
            <a:noFill/>
          </a:ln>
        </p:spPr>
      </p:pic>
      <p:pic>
        <p:nvPicPr>
          <p:cNvPr id="1052" name="congestion_perf0" descr=""/>
          <p:cNvPicPr/>
          <p:nvPr/>
        </p:nvPicPr>
        <p:blipFill>
          <a:blip r:embed="rId2"/>
          <a:stretch/>
        </p:blipFill>
        <p:spPr>
          <a:xfrm>
            <a:off x="214200" y="4210200"/>
            <a:ext cx="58834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4560" y="1495440"/>
            <a:ext cx="639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out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retransmission of los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congestion1" descr=""/>
          <p:cNvPicPr/>
          <p:nvPr/>
        </p:nvPicPr>
        <p:blipFill>
          <a:blip r:embed="rId1"/>
          <a:stretch/>
        </p:blipFill>
        <p:spPr>
          <a:xfrm>
            <a:off x="795240" y="2881440"/>
            <a:ext cx="7871040" cy="312408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807000" y="41148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lo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0200" y="13399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:                            (good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only when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orse: retransmission of delayed (not lost) packet makes         larger         than the previous case for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812960" y="1225440"/>
            <a:ext cx="1333800" cy="689400"/>
            <a:chOff x="1812960" y="1225440"/>
            <a:chExt cx="1333800" cy="689400"/>
          </a:xfrm>
        </p:grpSpPr>
        <p:grpSp>
          <p:nvGrpSpPr>
            <p:cNvPr id="1060" name=""/>
            <p:cNvGrpSpPr/>
            <p:nvPr/>
          </p:nvGrpSpPr>
          <p:grpSpPr>
            <a:xfrm>
              <a:off x="1812960" y="1231560"/>
              <a:ext cx="573840" cy="683280"/>
              <a:chOff x="1812960" y="1231560"/>
              <a:chExt cx="573840" cy="683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1812960" y="123156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08080" y="15159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466720" y="1225440"/>
              <a:ext cx="680040" cy="655920"/>
              <a:chOff x="2466720" y="1225440"/>
              <a:chExt cx="680040" cy="655920"/>
            </a:xfrm>
          </p:grpSpPr>
          <p:sp>
            <p:nvSpPr>
              <p:cNvPr id="1064" name=""/>
              <p:cNvSpPr/>
              <p:nvPr/>
            </p:nvSpPr>
            <p:spPr>
              <a:xfrm>
                <a:off x="2466720" y="1225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11520" y="1482480"/>
                <a:ext cx="4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2178360" y="131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4726080" y="1600200"/>
            <a:ext cx="1382400" cy="689400"/>
            <a:chOff x="4726080" y="1600200"/>
            <a:chExt cx="1382400" cy="689400"/>
          </a:xfrm>
        </p:grpSpPr>
        <p:grpSp>
          <p:nvGrpSpPr>
            <p:cNvPr id="1068" name=""/>
            <p:cNvGrpSpPr/>
            <p:nvPr/>
          </p:nvGrpSpPr>
          <p:grpSpPr>
            <a:xfrm>
              <a:off x="4726080" y="1600200"/>
              <a:ext cx="1382400" cy="689400"/>
              <a:chOff x="4726080" y="1600200"/>
              <a:chExt cx="1382400" cy="6894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4726080" y="1606320"/>
                <a:ext cx="573840" cy="683280"/>
                <a:chOff x="4726080" y="1606320"/>
                <a:chExt cx="573840" cy="6832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726080" y="16063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921200" y="1890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379840" y="1600200"/>
                <a:ext cx="728640" cy="657720"/>
                <a:chOff x="5379840" y="1600200"/>
                <a:chExt cx="728640" cy="6577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379840" y="160020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574240" y="185904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5079600" y="1646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 flipV="1">
              <a:off x="5040360" y="1720800"/>
              <a:ext cx="3168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615960" y="54100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sts” of cong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work (retrans) for given “goodp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981080" y="2262240"/>
          <a:ext cx="44960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2240"/>
                    <a:ext cx="44960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1710000" y="4800600"/>
            <a:ext cx="573840" cy="683280"/>
            <a:chOff x="1710000" y="4800600"/>
            <a:chExt cx="573840" cy="683280"/>
          </a:xfrm>
        </p:grpSpPr>
        <p:sp>
          <p:nvSpPr>
            <p:cNvPr id="1081" name=""/>
            <p:cNvSpPr/>
            <p:nvPr/>
          </p:nvSpPr>
          <p:spPr>
            <a:xfrm>
              <a:off x="1710000" y="48006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05120" y="5085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2023920" y="4915080"/>
            <a:ext cx="320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554880" y="4876920"/>
            <a:ext cx="728640" cy="657720"/>
            <a:chOff x="6554880" y="4876920"/>
            <a:chExt cx="728640" cy="657720"/>
          </a:xfrm>
        </p:grpSpPr>
        <p:sp>
          <p:nvSpPr>
            <p:cNvPr id="1085" name=""/>
            <p:cNvSpPr/>
            <p:nvPr/>
          </p:nvSpPr>
          <p:spPr>
            <a:xfrm>
              <a:off x="6554880" y="48769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49280" y="51357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7366320" y="1271520"/>
            <a:ext cx="573840" cy="683280"/>
            <a:chOff x="7366320" y="1271520"/>
            <a:chExt cx="573840" cy="683280"/>
          </a:xfrm>
        </p:grpSpPr>
        <p:sp>
          <p:nvSpPr>
            <p:cNvPr id="1090" name=""/>
            <p:cNvSpPr/>
            <p:nvPr/>
          </p:nvSpPr>
          <p:spPr>
            <a:xfrm>
              <a:off x="7366320" y="1271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61440" y="1555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578480" y="1333440"/>
            <a:ext cx="3390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as      and     increas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congestion2" descr=""/>
          <p:cNvPicPr/>
          <p:nvPr/>
        </p:nvPicPr>
        <p:blipFill>
          <a:blip r:embed="rId1"/>
          <a:stretch/>
        </p:blipFill>
        <p:spPr>
          <a:xfrm>
            <a:off x="669960" y="2398680"/>
            <a:ext cx="5643360" cy="3730680"/>
          </a:xfrm>
          <a:prstGeom prst="rect">
            <a:avLst/>
          </a:prstGeom>
          <a:ln w="0">
            <a:noFill/>
          </a:ln>
        </p:spPr>
      </p:pic>
      <p:grpSp>
        <p:nvGrpSpPr>
          <p:cNvPr id="1094" name=""/>
          <p:cNvGrpSpPr/>
          <p:nvPr/>
        </p:nvGrpSpPr>
        <p:grpSpPr>
          <a:xfrm>
            <a:off x="5527800" y="1643040"/>
            <a:ext cx="573840" cy="683280"/>
            <a:chOff x="5527800" y="1643040"/>
            <a:chExt cx="573840" cy="683280"/>
          </a:xfrm>
        </p:grpSpPr>
        <p:grpSp>
          <p:nvGrpSpPr>
            <p:cNvPr id="1095" name=""/>
            <p:cNvGrpSpPr/>
            <p:nvPr/>
          </p:nvGrpSpPr>
          <p:grpSpPr>
            <a:xfrm>
              <a:off x="5527800" y="1643040"/>
              <a:ext cx="573840" cy="683280"/>
              <a:chOff x="5527800" y="1643040"/>
              <a:chExt cx="573840" cy="683280"/>
            </a:xfrm>
          </p:grpSpPr>
          <p:sp>
            <p:nvSpPr>
              <p:cNvPr id="1096" name=""/>
              <p:cNvSpPr/>
              <p:nvPr/>
            </p:nvSpPr>
            <p:spPr>
              <a:xfrm>
                <a:off x="5527800" y="1643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22920" y="1927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 flipV="1">
              <a:off x="5829120" y="18003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52280" y="458136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ther “cost” of conges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packet dropped, any “upstream transmission capacity used for that packet was wa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goes to 0 as the heavy traffic approaches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veryone’s best interest to “back off” on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congestion_perf2" descr=""/>
          <p:cNvPicPr/>
          <p:nvPr/>
        </p:nvPicPr>
        <p:blipFill>
          <a:blip r:embed="rId1"/>
          <a:stretch/>
        </p:blipFill>
        <p:spPr>
          <a:xfrm>
            <a:off x="669960" y="156204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1103" name="congestion2" descr=""/>
          <p:cNvPicPr/>
          <p:nvPr/>
        </p:nvPicPr>
        <p:blipFill>
          <a:blip r:embed="rId2"/>
          <a:stretch/>
        </p:blipFill>
        <p:spPr>
          <a:xfrm>
            <a:off x="5213520" y="1477800"/>
            <a:ext cx="3519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es towards congest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42440" y="1866960"/>
            <a:ext cx="42642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d-end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96920" y="1846080"/>
            <a:ext cx="429444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it indicating congestion (SNA, DECbit, TCP/IP ECN, 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rate sender should sen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road approaches towards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20400" y="1324080"/>
            <a:ext cx="8480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end control (no network ass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limited by congestion window siz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ver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gbn_seqnum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485640" y="4591080"/>
            <a:ext cx="7915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segments, each with MSS bytes sent in one RT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2098800" y="5143680"/>
            <a:ext cx="4435200" cy="809280"/>
            <a:chOff x="2098800" y="5143680"/>
            <a:chExt cx="4435200" cy="809280"/>
          </a:xfrm>
        </p:grpSpPr>
        <p:sp>
          <p:nvSpPr>
            <p:cNvPr id="1113" name=""/>
            <p:cNvSpPr/>
            <p:nvPr/>
          </p:nvSpPr>
          <p:spPr>
            <a:xfrm>
              <a:off x="2098800" y="531324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roughput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9132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0832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9292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62160" y="5524560"/>
              <a:ext cx="10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24000" y="5143680"/>
              <a:ext cx="441000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contro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96920" y="1294920"/>
            <a:ext cx="42944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“phas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ow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s threshold between two slow start phase, congestion contro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228240" y="1294920"/>
            <a:ext cx="435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usable bandwidth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mit as fast as possi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large as possible) withou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loss (conges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begin probing (increasing)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low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37960" y="4314600"/>
            <a:ext cx="42976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 increase (per RTT) in window size (not so slow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event: timeout (Tahoe TCP) and/or or three duplicate ACKs (Reno 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at causes duplicate ACKs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42960" y="220356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each segment 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2600" y="1790640"/>
            <a:ext cx="39240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1129" name=""/>
            <p:cNvSpPr/>
            <p:nvPr/>
          </p:nvSpPr>
          <p:spPr>
            <a:xfrm>
              <a:off x="657360" y="1657080"/>
              <a:ext cx="28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lowstart 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5723280" y="13129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408000">
            <a:off x="6704640" y="191412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7236360" y="13320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7900920" y="5099040"/>
            <a:ext cx="665280" cy="368280"/>
            <a:chOff x="7900920" y="5099040"/>
            <a:chExt cx="665280" cy="368280"/>
          </a:xfrm>
        </p:grpSpPr>
        <p:sp>
          <p:nvSpPr>
            <p:cNvPr id="114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00920" y="50990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408000">
            <a:off x="6702840" y="27000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408000">
            <a:off x="6794280" y="37144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115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115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Avo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52320" y="2127240"/>
            <a:ext cx="397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slowstart is over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w segments AC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slow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61960" y="1847880"/>
            <a:ext cx="4067280" cy="376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76440" y="1695600"/>
            <a:ext cx="313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33240" y="161280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05440" y="463860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5840" y="291456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24360" y="2914560"/>
            <a:ext cx="143856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04960" y="254304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57440" y="143820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xing/demultiplexing: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523800" y="2112840"/>
            <a:ext cx="787320" cy="62568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3389400" y="2093760"/>
            <a:ext cx="407520" cy="742320"/>
            <a:chOff x="3389400" y="2093760"/>
            <a:chExt cx="407520" cy="742320"/>
          </a:xfrm>
        </p:grpSpPr>
        <p:sp>
          <p:nvSpPr>
            <p:cNvPr id="681" name=""/>
            <p:cNvSpPr/>
            <p:nvPr/>
          </p:nvSpPr>
          <p:spPr>
            <a:xfrm>
              <a:off x="3389400" y="266328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94240" y="2099520"/>
              <a:ext cx="189360" cy="569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91920" y="2260800"/>
              <a:ext cx="257760" cy="569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89400" y="209376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96920" y="2105280"/>
              <a:ext cx="0" cy="5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649680" y="2663280"/>
              <a:ext cx="14652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23600" y="2334960"/>
              <a:ext cx="170280" cy="32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48440" y="2432880"/>
              <a:ext cx="130320" cy="11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76000" y="1660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46120" y="164160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62240" y="2200320"/>
            <a:ext cx="19620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62400" y="1436760"/>
            <a:ext cx="1495080" cy="992160"/>
            <a:chOff x="1562400" y="1436760"/>
            <a:chExt cx="1495080" cy="992160"/>
          </a:xfrm>
        </p:grpSpPr>
        <p:sp>
          <p:nvSpPr>
            <p:cNvPr id="693" name=""/>
            <p:cNvSpPr/>
            <p:nvPr/>
          </p:nvSpPr>
          <p:spPr>
            <a:xfrm>
              <a:off x="1609560" y="151452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62400" y="1436760"/>
              <a:ext cx="149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09560" y="175248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9280" y="197172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380960" y="2657520"/>
            <a:ext cx="1962360" cy="9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574280" y="2522520"/>
            <a:ext cx="1564560" cy="992160"/>
            <a:chOff x="1574280" y="2522520"/>
            <a:chExt cx="1564560" cy="992160"/>
          </a:xfrm>
        </p:grpSpPr>
        <p:sp>
          <p:nvSpPr>
            <p:cNvPr id="699" name=""/>
            <p:cNvSpPr/>
            <p:nvPr/>
          </p:nvSpPr>
          <p:spPr>
            <a:xfrm>
              <a:off x="1657440" y="260028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74280" y="2522520"/>
              <a:ext cx="156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57440" y="283824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7160" y="305748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763920" y="3613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 use: simple telnet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2800440" y="5132520"/>
            <a:ext cx="787320" cy="625320"/>
          </a:xfrm>
          <a:prstGeom prst="rect">
            <a:avLst/>
          </a:prstGeom>
          <a:ln w="0">
            <a:noFill/>
          </a:ln>
        </p:spPr>
      </p:pic>
      <p:grpSp>
        <p:nvGrpSpPr>
          <p:cNvPr id="705" name=""/>
          <p:cNvGrpSpPr/>
          <p:nvPr/>
        </p:nvGrpSpPr>
        <p:grpSpPr>
          <a:xfrm>
            <a:off x="6799320" y="4713120"/>
            <a:ext cx="540720" cy="923400"/>
            <a:chOff x="6799320" y="4713120"/>
            <a:chExt cx="540720" cy="923400"/>
          </a:xfrm>
        </p:grpSpPr>
        <p:sp>
          <p:nvSpPr>
            <p:cNvPr id="706" name=""/>
            <p:cNvSpPr/>
            <p:nvPr/>
          </p:nvSpPr>
          <p:spPr>
            <a:xfrm>
              <a:off x="6799320" y="542160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71480" y="4720320"/>
              <a:ext cx="251640" cy="70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02920" y="4920840"/>
              <a:ext cx="342360" cy="70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99320" y="471312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40040" y="47275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45280" y="5421600"/>
              <a:ext cx="1944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45040" y="5013360"/>
              <a:ext cx="226440" cy="40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77800" y="5135040"/>
              <a:ext cx="17280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382400" y="5079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6320" y="480384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91000" y="5153040"/>
            <a:ext cx="3181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6734160" y="2084400"/>
            <a:ext cx="787320" cy="6253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456240" y="14414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34280" y="2733840"/>
            <a:ext cx="0" cy="19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953400" y="2733840"/>
            <a:ext cx="9360" cy="19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199280" y="2913120"/>
            <a:ext cx="1519200" cy="1469520"/>
            <a:chOff x="7199280" y="2913120"/>
            <a:chExt cx="1519200" cy="1469520"/>
          </a:xfrm>
        </p:grpSpPr>
        <p:sp>
          <p:nvSpPr>
            <p:cNvPr id="722" name=""/>
            <p:cNvSpPr/>
            <p:nvPr/>
          </p:nvSpPr>
          <p:spPr>
            <a:xfrm>
              <a:off x="7257960" y="297000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99280" y="291312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57960" y="318600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67320" y="3447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77040" y="37051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57960" y="3933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627520" y="2903400"/>
            <a:ext cx="1519560" cy="1470240"/>
            <a:chOff x="5627520" y="2903400"/>
            <a:chExt cx="1519560" cy="1470240"/>
          </a:xfrm>
        </p:grpSpPr>
        <p:sp>
          <p:nvSpPr>
            <p:cNvPr id="729" name=""/>
            <p:cNvSpPr/>
            <p:nvPr/>
          </p:nvSpPr>
          <p:spPr>
            <a:xfrm>
              <a:off x="5686560" y="2960640"/>
              <a:ext cx="1438200" cy="141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27520" y="2903400"/>
              <a:ext cx="1519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86560" y="317664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95920" y="3438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05640" y="36957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86560" y="3924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050160" y="567072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 use: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989520" y="4637160"/>
            <a:ext cx="1519200" cy="1469520"/>
            <a:chOff x="3989520" y="4637160"/>
            <a:chExt cx="1519200" cy="1469520"/>
          </a:xfrm>
        </p:grpSpPr>
        <p:sp>
          <p:nvSpPr>
            <p:cNvPr id="737" name=""/>
            <p:cNvSpPr/>
            <p:nvPr/>
          </p:nvSpPr>
          <p:spPr>
            <a:xfrm>
              <a:off x="4048200" y="469404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89520" y="463716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48200" y="491004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57560" y="5171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7280" y="54291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48200" y="5657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Fai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10160" y="1550520"/>
            <a:ext cx="429408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N TCP sessions share same bottleneck link, each should get 1/N of lin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congestion avoid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IM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window by 1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window by factor of 2 on loss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1179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1180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1184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08200" y="3879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05360" y="53085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ty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1198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1199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1203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6" name=""/>
          <p:cNvSpPr/>
          <p:nvPr/>
        </p:nvSpPr>
        <p:spPr>
          <a:xfrm>
            <a:off x="3963600" y="54324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CP f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increase gives slope of 1, as throughpu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23120" y="443700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223160" y="39895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1600" y="6248520"/>
            <a:ext cx="85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the two connections fluctuate along equal bandwidt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vs.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483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reliable network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flow,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want overhead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want congestion control!  I.e. we don’t want to be “f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nt data rate throttled, but ironically this can lead to unfair transmission rate and could actually bring all traffic to a 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also be unfair using TCP by opening multiple parallel connections (often done with web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DP: User Datagram Protoc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RFC 76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rills,” “bare bones” Internet 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 effort” service, UDP segments may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nectionl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30840" y="1714320"/>
            <a:ext cx="4083120" cy="39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egmen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91080" y="1638360"/>
            <a:ext cx="42480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DP: 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sed for streaming multimedia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: no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UDP uses (why?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fer over UDP: add reliability at applica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-specific error reco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4344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6748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7612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7504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65776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4840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30584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3496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763040" y="18622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5272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14920" y="395136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70320" y="55180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30584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20280" y="2508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5320" y="2498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16080" y="2212920"/>
            <a:ext cx="15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8164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1-20T02:46:37Z</dcterms:modified>
  <cp:revision>97</cp:revision>
  <dc:subject/>
  <dc:title>PowerPoint Presentation</dc:title>
</cp:coreProperties>
</file>