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5612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25960" y="-360"/>
            <a:ext cx="31557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47400" y="717120"/>
            <a:ext cx="4786200" cy="35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9480" y="4544640"/>
            <a:ext cx="5342040" cy="43052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89640"/>
            <a:ext cx="315612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25960" y="9089640"/>
            <a:ext cx="31557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2ECCBFB-CB11-41F2-BAFC-BB524AC51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-3 = Optical Carrier, 155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F00-6C47-47A8-BAA0-62CB311F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44B-1ABE-4CB6-AB52-5CFBEF5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46C-CBE4-4529-88B0-074D20FF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7F8-D8B0-43EE-8432-88D9DF51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20B-B9CF-4145-BD66-4807862D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66C-D378-41AF-8C09-4B6FF8B6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101-DA7D-4D33-9A26-767A490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226-B575-472F-856D-910F00F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B12-3DA0-45A5-9FD9-C7170CE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D3C-3022-46E7-87DF-F2EC3E2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7A7-2F08-4C36-B4BA-DBFFB53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866-D3A5-4BFF-926E-D19A7D9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E739-943F-49E5-B47B-AEE60BA91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-Based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4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5-06" descr=""/>
          <p:cNvPicPr/>
          <p:nvPr/>
        </p:nvPicPr>
        <p:blipFill>
          <a:blip r:embed="rId1"/>
          <a:stretch/>
        </p:blipFill>
        <p:spPr>
          <a:xfrm>
            <a:off x="228600" y="130320"/>
            <a:ext cx="830592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n this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91120" y="3962520"/>
            <a:ext cx="3971880" cy="2705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onnected by communication channels that each connect exactly two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flexibility in communication hardware, packet format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ecurity and privacy because communication channel is not sha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doesn’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143000" y="5308560"/>
                <a:ext cx="25909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cost by reducing number of connections via a shar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.. attached computers compete for use of shared conn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cation almost exclusively 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out OK though due to locality of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 that we access computers nearby more frequently than those far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distance almost exclusively point-to-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 /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Top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 and Tre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dentify target station, each station has uniqu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hogging, data in small blocks -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Transmission - Bus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762120" y="1371600"/>
            <a:ext cx="441648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75480" y="1523880"/>
            <a:ext cx="268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roadcast to all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system may transmit at a time or we ge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ransmissions if cable is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coax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ng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76176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ng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ion connected directly to central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via two point to point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node can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tar, logical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station can transmi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node can act as fram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broadcast to other stations except destination, can increase network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use twisted pair as th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5300640"/>
            <a:ext cx="6477120" cy="170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= Small block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ending data of shared networks, e.g. multipl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= Packet, but in the context of a specific typ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nd a frame, the sender and receiver must agree on the format of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e must know how to specify the beginning and the end of each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- block of data transmitted without start or stop bits, requires synchronized clock (or embed clock signal in data, e.g. Manchester en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Level Star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520" y="160020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nect hubs to h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for Media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to keep collisions from hap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Access Control - Ethernet (CSMA/C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form: 10 Mbps, or 1.25 Mbytes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access control; i. e., no central control on when you can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randomly access medium, contend for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gets every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’s Predecessor - A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listens (for max round trip time) plus small 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utilization 18% - propagation delay &lt; transmission time, high chance of collision!  Can wait/listen for free medium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 time is much less than transmiss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at about 70% the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tions know that a transmission has started almost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utilization depends on propagation time (medium length) and fram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frame and shorter propagation gives better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listen for clear medium (carrier s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tations start at the same instant,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it reasonable time (round trip  plus ACK cont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K then re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Bus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edium is idle, trans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usy, listen for idle then transmit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tations are waiting, coll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for idle, then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medium i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for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llision detected, jam then ceas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jam, wait random time then start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exponential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wait min idle time - give others nodes a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fairness, 51.2us for 1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8280" y="624852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must be long enough to detect collision during transmis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sion Re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t up to N attempts, e.g.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, must send jam signal, random backoff and re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signal == 512 bits (64 bytes), to ensure the end nodes hear the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thernet minimum frame is 64 bytes (46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exponential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1, 2, 4, 8 …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 slots, etc. where m=Min(10, nth r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can be lost due to collision, especially if network is heavi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network cards can saturate cable; only ~30% utilization under heavy transmission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(lower overhead) than async for large block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block that requires 8 bytes of overhead (preamble, postamble, other bookkeeping) with 100 information characters, or 800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Efficiency = 800 / 800+64 = 92.6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sync with start/stop bit, 8 data bits:  800 / 800+200 =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goes up the larger our blocks are, assuming the overhead bytes stay the same.  Why not make our blocks even big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gabit Ethernet -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ally, the same as regular Ethernet but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at least 4096 bit-time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Propagation time is too short, and we want the transmission time longer than the propagation time to detect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many small frames to be transmitted consecutively up to a limit to avoid carrier extension on shor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gabit Ethernet - Phys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gabit Ethernet Al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gigabit-ethernet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om, Bay Networks, Cisco, Compaq, Granite Systems, Intel, LSI Logic, Packet Engines, Sun Microsystems,UB Networks, VLSI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ing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low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mphasis on network applications driving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 Ring (802.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data to transmit, forwards token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to transmit, “Holds” token tempor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data frame, can send multiple frames up to some maximum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(s) make round trip and are absorbed by transmitting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light loads, some in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heavy loads, round r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0880" y="2936880"/>
            <a:ext cx="25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ds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ends to A an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er Distributed Data Interface (Can also run over twisted pair at shorter dista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M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 and MAN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 MAC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or 802.5 exce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oken released as soon as transmission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ings for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data frames from multiple senders to be on the ring at once, higher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 – Multiple 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2817720"/>
            <a:ext cx="6243840" cy="404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9080" y="1336680"/>
            <a:ext cx="832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 u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-rot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ngs in which data flows in opposite dir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ase of fiber or station failure, remaining sta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op 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route data through spar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tations automatically configure loop back by monitoring data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Gen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/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5-15" descr=""/>
          <p:cNvPicPr/>
          <p:nvPr/>
        </p:nvPicPr>
        <p:blipFill>
          <a:blip r:embed="rId1"/>
          <a:stretch/>
        </p:blipFill>
        <p:spPr>
          <a:xfrm>
            <a:off x="609480" y="1471680"/>
            <a:ext cx="77724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TM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to ATM WAN, acts as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LAN encapsulation (LANE server or edge switch) if carrying etherne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s ethernet address to Virtual Circuit identifier,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 ATM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TM switch or local network of ATM 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group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systems connected directly to ATM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replace ethernet cards, ATM operates at data link lay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TM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 LAN H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92640" y="304920"/>
            <a:ext cx="63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at Dallas Cowboys (www.dallascowboys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dallas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462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euters" descr=""/>
          <p:cNvPicPr/>
          <p:nvPr/>
        </p:nvPicPr>
        <p:blipFill>
          <a:blip r:embed="rId1"/>
          <a:stretch/>
        </p:blipFill>
        <p:spPr>
          <a:xfrm>
            <a:off x="2252520" y="1674720"/>
            <a:ext cx="4640400" cy="3508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33080" y="30492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inside Reuters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 F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body for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6633"/>
                </a:solidFill>
                <a:latin typeface="Times New Roman"/>
              </a:rPr>
              <a:t>http://www.atmforum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I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tations using same MAC protocol, together with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po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some radius (~200 ft) from the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s as single logic LAN to Data 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- Physic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edia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CSMA/CD, uses CSMA/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ense Multiple Access, Collision 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llision detection, aims at avoiding collisions in the first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 collision detection, if no collision is sensed one could still occur at the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C send to B but no direct signal between A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6257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edia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a is idle for time DIFS (Distributed Inter Frame Space) then allowed to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a is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media is free for time D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ait an ADDITIONAL random backoff time before sending instead of immediately as in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ight get a collision, but no detection for one – instead the CRC will (hopefully)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n ACK back if data correctly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send ACK due to lack of collision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ender doesn’t receive ACK in time period, res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Stuffing with HD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mit frame at both ends with 0111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ender wants to send six 1’s as data then it really sends five 1’s and then a 0, followed by a 1:  111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needs logic to check the next bit after 5 bits are received.  If it is 0, then the 0 is deleted and the next bit is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r reads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arenc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edia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supports a way to reserve channel access, avoids hidden sta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sends short Request To Send (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sends short Clear To Send (CTS) with permission to the 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stations also hear the CTS, and have to withhold sending until transmission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send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ient sends ACK if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tations also hear the ACK, can now issue their own 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have collisions with RTS or CTS but not with Data or ACK. If collisions, stations requesting to send will not get a CTS and will have to wait random time to re-submit the 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section on LAN technology described techniques for providing connectivity between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vise technique for delivering message through LAN medium to single, specific destination 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computer us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dentify the intended destination of a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computer also identif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 carried in the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ying a Dest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nt across a shared network reaches all attached stations - for all LAN topolo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switched technology thou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hardware detects delivery of frame and extracts frame from me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... most applications want data to be delivered to one specific application on another computer - no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u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etwork technologies have a hardware addressing scheme that identifies stations on the net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ion is assigned a numeri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includes hardware address in each transmitted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tation identified in frame receives copy of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LAN technologies include sender's hardware address in frame,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Hardware and Packet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detail about organization of LAN hardware and comput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781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Hardware and Packet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 interface handles all details of frame transmission and rece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hardware addresses, error detection codes, etc. to outgoing fr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DMA to copy frame data directly from ma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eys access rules (e.g., CSMA/CD) when transmit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error detection codes on incoming fr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DMA to copy data directly into ma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destination address on incoming fr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stination address on incoming frame matches the local station's address, a copy of the frame is passed to the attached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ed to the local computer are ignored and don't affect the local computer in any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pplications wa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to all stations on the 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communication channel can make broadcast efficient - message is delivered to all s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adcast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d to identify broadcast messages, which are captur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 passes data up if the address on the message matches its own addre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some computers on a LAN want to broadcast for their app, but others don’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that don’t are stuck processing a bunch of broadcast data they don’t care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ata is not filtered, it is passed up the networking layer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a multi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ddress passes to the networ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can then choose to pass data up if the frame’s address matches the station’s addr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oadcast addr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IC h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 address, assigned by IEEE in its 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-bit integer, 6 unsigned char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address:  FF FF FF FF FF 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address: 01 XX XX XX XX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 address the rest, e.g.: 00 02 B3 9F 3A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3 bytes are manufactur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: 00 02 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: 08 0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Com Europe: 00 50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standards.ieee.org/db/oui/ f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orma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2.0 (Xerox, Un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3 (Novell / ISO / Un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two sub-layers for LLC (logical link control) and MA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te Stuf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8120" y="4240080"/>
            <a:ext cx="853452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120" y="42400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50160" y="4240080"/>
            <a:ext cx="144756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240080"/>
            <a:ext cx="152388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97720" y="42400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80988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 packet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79920" y="5089680"/>
            <a:ext cx="92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   Address   Control                         Message                       CRC-16     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  1 byte      1 byte                          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2 bytes    1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4320" y="2030400"/>
            <a:ext cx="85341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4320" y="2030400"/>
            <a:ext cx="7617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13920" y="2030400"/>
            <a:ext cx="7617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120" y="16002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P packet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60480" y="2879640"/>
            <a:ext cx="924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Message                                               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16320" y="5943600"/>
            <a:ext cx="68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Escape Character to avoid Transparenc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on the frame field formats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5040" y="87948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oblem at the Byt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952880"/>
            <a:ext cx="12189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4952880"/>
            <a:ext cx="152388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520" y="5878440"/>
            <a:ext cx="883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     Source   Length   LLC        Type        Message            CRC-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         address   2 by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bytes   2 bytes    variable              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38-1492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9528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9528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680" y="4495680"/>
            <a:ext cx="52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, Min length=64, Max=151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4440" y="1700280"/>
            <a:ext cx="853452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440" y="1700280"/>
            <a:ext cx="1523880" cy="76176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59640" y="1700280"/>
            <a:ext cx="1523880" cy="7617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680" y="1270080"/>
            <a:ext cx="60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2 Format - Min length=64, Max=151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320" y="2625840"/>
            <a:ext cx="885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        Source     Type                      Message                      CRC-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            address     2 by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46-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2560" y="1700280"/>
            <a:ext cx="761760" cy="76176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7440" y="3657600"/>
            <a:ext cx="88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dicates higher level protocol or control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= 0x0800, AppleTalk over Eth: 0x809B  ARP = 0x0806, RARP=0x80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an ethernet driver tell the difference between the two frame types in a heterogenous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ame formats don’t overlap (at least not for most 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 Len &gt;= 46 &amp;&amp; &lt;= 1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IP Type == 0x800, 2048 in 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hings to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 2 format didn’t specify the length of the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know how large the fram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ient has to read in all the data and then compute that the last 4 bytes are CRC, stuff in between Type and CRC is the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802.3 a portion of the LLC and Length fields a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N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Network Attachment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TU – Maximum Transmission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id that Ethernet has a maximum frame size of 1518 bytes (less for the data, depending on Ethernet 2 vs. 80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on size of frame transmitted at data link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e MTU on UNI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tat 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2: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: 14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PPP: 1500 (576 better for high-latency mod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twork Layer has a bigger packet than MTU, it must be frag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Headers and Tra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formats have an 8 byte preamble used for synchronization (alternating 1’s and 0’s, makes a regular square wa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mputed CRC &lt;&gt; packet’s CRC, the packet is thrown a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y on higher level protocols for data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tries, ACKs, or NAKs, so-called “best effor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easy and cheap thoug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/doesn’t ethernet CRC guarantee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CRC catch all bit err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st errors ca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guarantee your packet will arr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Collision, congestion,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ing through 10 routers or bridges, can you guarantee relia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ly 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twork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twork mon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``network sniffer''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to examine the performance of or debug a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port statistics such as capacity utilization, distribution of frame size, collision rate or token circulation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cord and display specific frames, to understand and debug packet transmissions and ex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dea is a computer with a network interface that recei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miscuous 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esktop computers have interface that can be configured for promiscuous mo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with software, computer can exa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 on 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across a LA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uaranteed to be priva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receives and displays (but does not respond to) frames on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have a homework assignment later using a network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bits added by transmitter for error detecti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parity bit is such that character has even (even parity) or odd (odd parity) number of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number of bit errors goes unde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checking adds 1 or more characters to the end of the message based on a mathematical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 byte is added to the end of the message.  It is obtained by summing the message values,and dividing by 255. The remainder is the checksum. (95% effe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RC (Cyclic Redundancy Check), 8, 16, 24 or 32 bits are added, computed by calculating a remainder to a division problem. (99.969% with 8-bit, 99.99% with 16 bi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ook for more details on implementing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s codes containing sufficient redundancy to prevent errors by detecting and correcting them at the receiving end without retransmission of the origin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m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gelbarger code (corrects up to 6 consecutive bit err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e-Chaudhuri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rick Mock</cp:lastModifiedBy>
  <dcterms:modified xsi:type="dcterms:W3CDTF">2001-10-16T08:07:27Z</dcterms:modified>
  <cp:revision>39</cp:revision>
  <dc:subject/>
  <dc:title>PowerPoint Presentation</dc:title>
</cp:coreProperties>
</file>