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33B8-6BF1-48DE-A692-283C0C54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CA84-5916-436D-88CE-B6ACAB47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B52-F8C5-48F9-8456-CA599D32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5217-DAAF-4065-8A1F-2EA608AE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6807-277D-44C9-B1A3-C39EBB8A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3FF7-1582-427E-B0CC-BA1D6122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C8D2-96AC-471D-B63D-005407AB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66E8-ADD9-4520-A51B-ECD69874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5478-34B2-4385-8735-347049B7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EE83-12B2-4E42-99D0-F132E935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7CA4-8267-430D-AE27-0C7964C1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9B1F-7905-4943-8023-7DF01674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A16C-E6C0-4960-AE52-FE20DF614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: Internet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s 18,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 Class at a G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dotted decimal makes separating network address from host address easier, determining class is not so obvio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t first dotted decimal number, and use this tab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4952880" cy="3200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12880" y="6060960"/>
            <a:ext cx="72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a little binary number conversion based on first 4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7619760" cy="244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sion of the Address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ing scheme does not yield equal number of networks in each cla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bit must be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 remaining bits identify Class A n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= 128) possible class A n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re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360" y="4876920"/>
            <a:ext cx="803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ing out of IP’s?    Not allocated very effici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~4 billion possible 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 all of the hosts being used!   Some IP’s reserved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UA have 65536 hosts?    Stanford used to own a Clas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 : Classless addressing, private addres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rved Address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FC 1597 – Address Allocation for Private Inter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blocks are reserved for private inter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10.0.0.0 - 10.255.255.255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as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172.16.0.0 - 172.31.255.255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as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192.168.0.0 - 192.168.255.255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as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’ll need a gateway to translate from these addresses to the Internet addresses, and we’ll examine this later… common way to connect a home network to th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should never see a machine on the Internet with one of these network prefixes (hopeful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00200" y="2786040"/>
            <a:ext cx="6095880" cy="43768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ful Address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tion with four networks, completely privat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Class A,B,C addresses as appropriate for number of hosts on each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Special IP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twork itself is assigned an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no host can have all zero’s as its IP address suf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ix is the network prefix, suffix is all zero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Broadcast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 message to a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ix is the network prefix, suffix is all on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no host can have all one’s as its IP address suf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roadcast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 on the local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re address is all 1’s, i.e. 255.255.255.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Special IP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mputer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btain an address automatically when booting, we may use IP to communicate… but we don’t have a correct IP address y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n address of all zero’s to indicate “this comput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back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address beginning with 127 indicates the local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127.0.0.1 most common, but could be 127.0.44.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for testing, no packets leave the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Address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4582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net and Classless 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ful Addressing can be wasteful if we don’t utilize all the hosts within a network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echanisms to overcome the lim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less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three distinct network classes, allow the division between prefix and suffix to occur on arbitrary bit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with 9 hosts; only need 4 bits of suffix to 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 smallest class is class C, 254 hosts, so we’ll waste 245 possible 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less addressing lets have the 4 bits of suffix we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n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IP addresses are assigned so that all computers on the same local area network are on the sa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customary to use the last byte of the IP address to indicate different sub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class 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any portion of the IP address can be designated as a subnet by using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net ma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IP addresses are binary numbers, so partial bytes can be used as subn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Sub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11120" y="0"/>
            <a:ext cx="652176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key aspect of virtual network is single, uniform address form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't use hardware addresses because different technologies have different address form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format must be independent of any particular hardware address form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e address a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ing host puts destination internet address in pac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address can be interpreted by any intermediate rou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s examine address and forward packet on to the dest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f these addresses are virtual; they are defined in software, not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net M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subnet mask: 255.255.255.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3 bytes all on the same subnet, only varies in the last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5 = 11111111  in binary.  The bits form a “mask” – where there is a 1, this means the subnet is the sa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2.168.0.1,  192.168.0.2, 192.168.0.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net mask: 255.255.25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 = 11111111  11111111  11111110  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1.1.5 on the same subnet as 1.1.0.5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001  00000001  00000001  0000010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001  00000001  00000000  00000101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1.1.5 on the same subnet as 1.1.2.5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001  00000001  00000001  0000010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001  00000001  00000010  00000101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nets and Subnet M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net mask lets us divide the address space on arbitrary bit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better allocation of 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ill computers and routers use the subnet mas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sending to a destination IP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destination IP address to our own subnet m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dest is on the same subnet, just broadcast data on 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dest on another subnet, send to a gateway or 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ubnet mask with the network address of attached networks to determine proper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DR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DR = Classless Inter-Domain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 for classless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s the mask associated with an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nds a slash to the address with the size of the mask in dec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8.10.0.0/16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ys 16 bit prefix, 16 bit suffix (Class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8.211.0.16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8 bit prefix, 4 bit suf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7238880" cy="5067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D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2760" y="5867280"/>
            <a:ext cx="794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idn’t the lowest start at 0000 and highest at 111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disadvantage; not so easy to read host values from 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computer knows its network layer address from a configuration file.  However, each time the computer is moved, or its network is assigned a new address, the software on each individual computer must be upd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dynamic addressing.  With this approach, a server is designated to supply a network layer address to a computer each time the computer connects to the network from an available “pool” of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s “Next Available”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ies roaming computers, dial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tandards for dynamic addressing are commonly used in TCP/IP networ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strap Protocol (boo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Host Control Protocol (DHC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7920" y="3409920"/>
            <a:ext cx="6248160" cy="3448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ers and IP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address depends on network addr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routers - connected to two network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address specifie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r network attachment point, not necessarily a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 has multiple IP addresses - one for each inte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Homed H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s (that do not forward packets) can also be connected to multiple networ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forwards packets, it’s a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increase reliability and perform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ne network fails, the host can still reach the internet through the second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so send data on multiple networks for increased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homed hosts also have one address for each interf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ding Protocol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per levels of protocol stack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tocol addres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e.g. IP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hardware must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rdware 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eventual delive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address must be translated into hardware address for delivery; how can this be d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ddress translation is only necessary for the local LAN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 Consider if we need the hardware address if sending to a remote computer across the Interne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5.4-2arp" descr=""/>
          <p:cNvPicPr/>
          <p:nvPr/>
        </p:nvPicPr>
        <p:blipFill>
          <a:blip r:embed="rId1"/>
          <a:stretch/>
        </p:blipFill>
        <p:spPr>
          <a:xfrm>
            <a:off x="4495680" y="4152960"/>
            <a:ext cx="4572000" cy="2705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rnet (MAC) addresses are different than IP addresses.  Given an IP address for a machine on the same LAN, what is its MAC address?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P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dress Resolution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IP node (Host, Router) on the LAN has ARP module and Table.  This operates at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Li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P Table: IP/MAC address mappings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IP address; MAC address; TT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L (Time To Live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r, typical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hernet ARP: Address Resolution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-766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P (mo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A wants to send packet to destination IP addr XYZ on same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Host first checks own ARP Table for IP addr X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XYZ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ARP Table, ARP modu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adca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P pkt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XYZ, MAC (?)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nodes on the LAN accept and inspect the ARP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XYZ responds 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ca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P pkt carrying own MAC add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 XYZ, MAC (XYZ)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addres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ch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RP Table for future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A then send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c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packet to MAC(XY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broadcast the data in the first place rather than incur three separate transmiss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/IP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ing in TCP/IP is specified by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net Protoc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P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host is assigned a 32-bit numb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P 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net 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across entire Int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IP address is divided into a prefix and a suffi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ix identifies network to which computer is attach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two networks can be assigned the same network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ffix identifies computer within that 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two computers on the same network can have the same suffix, but computers on different networks can have the same suf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format makes routing effic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495680" cy="29066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P Table Look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simple list containing IP address and hardware address for each host on n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on IP address and extract corresponding hardware addres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all IP addresses have same prefix; can save space by dropping pref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334120" cy="3125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P Table Look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tial search may be prohibitively expensiv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dex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as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k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ing - 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st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t of IP address as list (array) inde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ing - use hashing function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st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generate list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P Message Exchang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043680" cy="4673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11560" y="5603760"/>
            <a:ext cx="80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ARP’s for Y’s IP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one hears the 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Y responds with a Unicast message (still broadcast on b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P Message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tocol 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rdware 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protocol address and hardware address sizes are varia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ernet = 6 oct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= 4 oct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used for other protocols and hardware types but in reality just used for Ethernet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6667560" cy="3321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P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4290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RDWARE ADDRESS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for Eth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TOCOL ADDRESS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x0800 for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for request, 2 for respo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bo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ppings from protocol address to hardware addr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 sets hardware address of target to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can extract hardware address of sender (saving an ARP reque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exchanges sender/target in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1600" y="4648320"/>
            <a:ext cx="6553080" cy="187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6134040" cy="1989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ing an ARP Requ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er constructs ARP mess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P message carried as data in hardware frame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eparate frame ty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ernet uses type 0x080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y, route packet from source IP addr  &lt;111.111.111.111&gt; to destination addr   &lt;222.222.222.222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outing table at source Host, find router 111.111.111.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RP table at source, find MAC address E6-E9-00-17-BB-4B, etc.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P does not span LA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5.4-42lan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6303960" cy="2450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Packet to another 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of IP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numbers (prefix) are un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ment of network numbers must be coordinated globally to ensure uniqu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ed by ICANN (formerly InterNIC/Network Solu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 addresses (suffix) may be reused on different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ation of network number prefix and host address suffix will be uni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ment of host addresses can be managed loc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your ISP can set the host addresses and names within the purview of their assigned network by ICA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designers chose 32-bit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32 bits in IP version 4 used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cause a problem soon, not a large enough address spa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cate some bits for prefix, some for suffi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prefix, small suffix - many networks, few hosts per 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prefix, large suffix - few networks, many hosts per 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variety of technologies, need to allow for both large and small networ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2908440"/>
            <a:ext cx="6934320" cy="3492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ful 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rs chose a compromise - multiple address formats that allow both large and small prefi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format is called an addres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of an address is identified by first four b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A, B and C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mary clas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ordinary host addr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 of a class is assigned a prefix, gets to pick what machines they want in the suf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A and B are all alloca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D is used for multicast, a limited form of broadca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hosts join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cast 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 are delivered to all members of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s manage delivery of single packet from source to all members of multicast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b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ulticast backbon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E is reserved for future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tted Decimal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A, B and C all break between prefix and suffix on byte bound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tted decimal no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nvention for representing 32-bit internet addresses in decim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each byte of address into decimal; display separated by periods (``dots''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4114800"/>
            <a:ext cx="701028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ing at U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iversity of Alaska has a single Class B network address, 137.229.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hosts at UA have a 137.229 prefix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7.229.134.207 – mazzy.math.uaa.alaska.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7.229.16.20 – www.uaf.alaska.e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7.229.150.11 – vor.uas.alaska.e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ffix bytes are used to determine local network and host throug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net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rick Mock</cp:lastModifiedBy>
  <dcterms:modified xsi:type="dcterms:W3CDTF">2001-11-01T09:09:16Z</dcterms:modified>
  <cp:revision>67</cp:revision>
  <dc:subject/>
  <dc:title>PowerPoint Presentation</dc:title>
</cp:coreProperties>
</file>