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EE3-2CDE-468C-BB41-AA1B8B42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564-5348-4E86-9573-33724CFE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0E7-2A06-43E6-83EB-532B918E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9D9-1B38-48C9-B8C8-E354BD6A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6187-68FB-4444-B567-23CA654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0D05-EBB6-4392-AEF4-DEFC7F15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B16C-E85F-4109-89FF-6AE761E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16B6-5ADE-475A-948F-CAA06B1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4F07-E2D7-4F9C-9516-393D6024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1D93-24D2-45DD-9B0A-91B09D2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17F8-E585-4687-AB47-CF9147C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8D8-0357-4A52-B643-8565494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6EA-5113-4327-80E9-650BAE2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132-5975-474F-A42A-0CE5CE2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49D-CD07-4B44-8FE3-25E002C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9168-8CCE-4CF8-97CD-6C45BCBB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6EE-371B-4871-9B2C-3EAF0D7F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847-C0F7-4075-8697-1874093C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541-9730-4046-A3A8-3352C38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2C0-0113-43BA-9C1C-BEC1A82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3E0-E427-45D5-9FF0-6B4EFE9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21D-62BC-4597-872B-DE3DAD7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11D-CDC1-41CF-A143-757E2244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A28-804A-4677-B19D-60E9444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271-8A65-4481-928E-F280BABD3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2FD-CBC3-45E6-B237-7218F5134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alaska.net/" TargetMode="External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itehouse.gov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 44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ation of the WW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es required: HTML,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: Designed by Tim Berners-Lee at CERN.  HTML = Hypertext Markup Language, text format for describing layout, multimedia, hyper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aic : First browser created by Marc Andreessen at NCSA in 1993.  Went on to found Netsca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, browsers spec continues to change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ous simplified model was 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different topologies, or ways to connect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can be classified in many different ways.  One of the most common is by geographic scop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Area Networks (L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 Networks (B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01-03" descr=""/>
          <p:cNvPicPr/>
          <p:nvPr/>
        </p:nvPicPr>
        <p:blipFill>
          <a:blip r:embed="rId1"/>
          <a:stretch/>
        </p:blipFill>
        <p:spPr>
          <a:xfrm>
            <a:off x="1801800" y="127080"/>
            <a:ext cx="5437080" cy="6730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320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ypes of Network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oup of microcomputers of terminals located in the same general area and connected by a common circu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s a clearly defined small area, such as within or between a few rooms or buil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 data rates of 10 to 100 million bits per second (Mbp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Network (B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rger, central network connecting several LANs, other BNs, metropolitan area networks, and wide area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up to several mil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from 64 Kbps to 45 M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term is also applied to WAN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this course abou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ystem for connecting computer using a single transmission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of networks connected by routers that are configured to pass traffic among any computers attached to networks in the s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mission - media, data enco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nsmission - data exchange over a net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- universal service over a collection of net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pplications - programs that use an inter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Area Network (M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LANs and BNs located in different areas to each other and to wide area networ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from 3 - 30 m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of 100 to 1000 M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Area Network (W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BNs and MANs and are usually leased from inter-exchange carriers (IXC’s), i.e. common c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hundreds or thousands of m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of 28.8 Kbps to 2 G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es the data travel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may travel different paths in a network, there are currently two different approaches to implement th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end-to-end communications path established for the duration of the conver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between the sender and receiver is called a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also serves as a constant transmission rate for the duration of the connection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uarante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ht use multiplexing, where multiple devices share the same communications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of circuit switching: telephone network, IS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y be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examples: X.25, Frame Relay,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s.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 not suitable for real-time servi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sharing of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statistical u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r, more efficient, less cos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nd toward 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: Asynchronous Transfer Mode, Packet switching, but allows constant data rate channel similar to circuit switching… we will examine it more lat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ware an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/WAN hardware can't solve all computer communication 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ing data through raw hardware is awkward and inconvenient - doesn't match programming paradigms we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ine reading a disk by having to write your own code each time to position the read/write head, seek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oftware provides a high-level interface to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is software for LAN and WAN systems is large and complica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tructuring technique to organize networking software design and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an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ftware at each layer adheres to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etwork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s a set of rules that specify the format and meaning of messages exchanged between computers across a networ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is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ing is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are implement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Su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related protocols that are designed for compatibility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 su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uite designe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 communication 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problems into sub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 protocol for each sub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ll-designed protocol su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fficient and effective - solves the problem without redundancy and makes best use of network capac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replacement of individual protocols without changes to other protoc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rst, a Brief History of the Intern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Anet (Advanced Research Projects Agency) in 19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computers w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footprint , Centr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took a long time to r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n't afford to put computers every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mmun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research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dissimilar computers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route information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a network of networks; inter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just 4 si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 a file transfer problem might use three layers, each is independent with their own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ts file transfer commands, e.g. “Send File X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transport service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integrity, break data into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face to hardware, addressing,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ultiple protocols at each layer, since they are independent, one could invoke other protocol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s in Simplified File Transfer Ap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 is added to the packet of data at each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 packet at the Application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port Layer adds its own header of control information to the 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ght even fragment a big packet into multiple litt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so, must add sequence numbers, ID of sending application or there may be confusion if multiple apps, data arrives out of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twork layer may in turn add its own header of control information to the Transport Layer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addressing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 are protocols in the suite; there are many other protocols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system, not proprietary (e.g. Appletalk, IPX/SPX, netbeu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vendors for the different layers of the s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access layer or Data Link layer or Device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is a logical idea - can be ignored in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lication software used by the network user, allows the user to define what message are sent over the net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the message generated by the application layer and performs these functions before passing them to the IP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Attaches application identifier (i.e. the port numb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Splits data into packets for ordering of deli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Collects message accounting information that can be used to identify how many messages each user has sent and to track errors.    This provides the reliable delivery of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each packet generated by the TCP layer and performs the following functions before passing it to the Data Link / Network Access lay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an address for the destination understood by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may be attached to different networks, provides routing functions from source to destination across multipl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vice / Data Link / 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the message generated by the IP layer and performs three functions before passing the message on the physical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It controls the physical layer by deciding when to transmit messages over the med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It formats the message by indicating where messages start and end, and which part is the addr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It detects and corrects any errors that have occurred in the transmission of the mess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.  It transfers a series of electrical, radio, or light signals through the circuit from sender to rece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al ARPANet S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Lay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52480"/>
            <a:ext cx="25146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5520" y="1870200"/>
            <a:ext cx="2242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f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 (e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438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200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80060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7320" y="48769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(10Ba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3280" y="3352680"/>
            <a:ext cx="18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outer up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200400"/>
            <a:ext cx="2667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434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81480" y="48769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1898640"/>
            <a:ext cx="25146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59120" y="2016000"/>
            <a:ext cx="239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ftp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 (e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5844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3465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10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5320" y="48769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(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1337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28195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657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3657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01-05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824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6360" y="5791320"/>
            <a:ext cx="85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 in this picture includes Transport and Interne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225720" y="1676520"/>
            <a:ext cx="871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(SMTP/PO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net/rlo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/Bo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/ ICMP / 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/ A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P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, Xmodem, HD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676520"/>
            <a:ext cx="88394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32767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1148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48769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905120" y="16761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24280" y="16761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58000" y="16761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/ Interne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068960" cy="3767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5240" y="144792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that the layers are independ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of TCP/IP St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s in the protocol physically communicate either up or down the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layer talks to Internet and Application layer, never directly to the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s of other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s in the protocol logically communicate with the peer layer of the recip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source client talks to FTPD on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source talks to remote endpoint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source talks to remote endpoint IP, maybe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4920" y="1828800"/>
            <a:ext cx="333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mportance of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are necessary in almost every business and public service ent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mary reason for standards is to ensure that hardware and software produced by different vendors can wor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standards makes it much easier to develop software and hardware that link different networks because software and hardware can be developed one layer at a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andards Making Pro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standa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ormal stand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developed by an official industry or government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acto stand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merge in the marketplace and supported by several vendors, but have no official stan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andards Making Proces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standardization process has thre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pecif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ge:  developing a nomenclature and identifying the problems to be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ntification of choic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:  those working on the standard identify the various solutions and choose the optimum solution from among the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most difficult stage: defining the solution and getting recognized industry leaders to agree on a single, uniform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in 197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unications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tional Organization for Standards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the ITU, makes technical recommendations about data communications inte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unications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tional Telecommunications Union - Telecommunication Standardization Sector (ITU-T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standard setting organization of the UN ITU.  Formerly called the Consultative Committee on International Telegraph and Telephone (CCIT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ised of representatives of over 150 Postal Telephone and Telegraphs (PTTs), like AT&amp;T, RBOCs, or common carri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839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itute of Electrical and Electronics Engineers (IE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Industries Association (E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 (N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Exchange Carriers Association (NE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ion for Open Systems (C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Data Interchange -(EDI) of Electronic Data Interchange for Administration Commerce and Transport (EDIFAC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, HTML, POP, MPEG, HTT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, IPX/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3 Ethernet, Token Ring, PPP, X-modem, H.28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, IEEE CAT 5 Cable, V.90, V.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ing The Internet: Ap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ools are comm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sends message that is echoed by remote compu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uments and behavior varies a bit between Windows/Un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cero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ports path to remote compu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racert in Wind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tools are quite useful for rudimentary debugging of the network.  We will examine both in more detail later, but first here is a look at their high-level us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448560" y="1523880"/>
            <a:ext cx="56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packet to remot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computer replies with echo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mputer reports receipt of rep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lu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tr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760" y="3333600"/>
            <a:ext cx="854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zzy&gt; ping beowulf.alaska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NG beowulf.alaska.net (209.112.130.8): 56 data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0 ttl=237 time=140.3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1 ttl=237 time=139.6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2 ttl=237 time=151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3 ttl=237 time=137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 beowulf.alaska.net ping statistics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packets transmitted, 4 packets received, 20% 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nd-trip min/avg/max = 137.0/141.9/151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ceroute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292680" y="1523880"/>
            <a:ext cx="784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series of packets along path to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uccessive packet identifies next router along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have a “Time To Live” option that is incr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anding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list of pack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20" y="3657600"/>
            <a:ext cx="9203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zzy&gt; traceroute styx.gci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route to styx.gci.net (208.138.129.15), 30 hops max, 46 byte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137.229.114.101 (137.229.114.101)  0.896 ms  0.737 ms  0.69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 swa-7206-1.uaa.alaska.edu (137.229.101.2)  1.540 ms  0.836 ms 0.89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 121-village-net.gci.net (209.165.156.121)  1.589 ms  2.062 ms 1.57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 * styx.gci.net (208.138.129.15)  5.530 ms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920" y="5603760"/>
            <a:ext cx="60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UAA, try a traceroute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www.alaska.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Ping/Tracerou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protocols were invol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 high leve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 : The app sent data in some format that was recognized by the receiver.  The receiver was running a program whose responsibility was to echo the packet 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route : The app sent data with increasing TTL fields.  There must be some receiver program that will report back “Your packet died he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ussion Problem: Email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y you want to devise a protocol that can receive data from a client and eventually pass it on to the recipient (i.e. sendmai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hould be in this protocol?  What layer are we talking about?  Ideas for defining it?  We will look at email a bit more in a homework exerc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re Internet Histo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5 – ARPAnet splits into MILNET and NSF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 – Usenet/UUCP over mod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2 – DARPA uses TCP/IP over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3 – BSD Unix over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4 – D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 – Morris w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3 – Web starts to take 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www.whitehouse.g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4 – Big business online bo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olution of the Intern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, Compuserve, et. al.  grow in the 80’s, incorporated into Internet in 9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FNet shut down in 1995 in favor of NAP structure, commercial backb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Grow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# Hosts (Computers connecte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676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# of Web S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0769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Kenrick</dc:creator>
  <dc:description/>
  <dc:language>en-US</dc:language>
  <cp:lastModifiedBy>Kenrick Mock</cp:lastModifiedBy>
  <dcterms:modified xsi:type="dcterms:W3CDTF">2001-08-27T01:36:20Z</dcterms:modified>
  <cp:revision>55</cp:revision>
  <dc:subject/>
  <dc:title>Networking</dc:title>
</cp:coreProperties>
</file>