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E254-9EF6-4661-A79B-A383E591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8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28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32D5-6576-4013-9C64-C177BE2F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555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04800" y="1981080"/>
            <a:ext cx="3555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555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04800" y="4130640"/>
            <a:ext cx="3555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2484-ABA1-4B7B-A317-4D40BEA3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4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4720" y="1981080"/>
            <a:ext cx="234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97840" y="1981080"/>
            <a:ext cx="234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34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4720" y="4130640"/>
            <a:ext cx="234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97840" y="4130640"/>
            <a:ext cx="234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97E-1B49-4589-BD50-31C83B2A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E04A-1772-4516-811D-7D23598E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4EB9-15C5-49F2-B723-92995F94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24CF-3F04-4FDC-B1DF-F5609452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5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4800" y="1981080"/>
            <a:ext cx="35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178E-68BF-4241-90B2-FBDAB7D5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14A5-E6C0-490F-93FE-2143DD87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80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9BBB-B083-4F94-9CE5-00076478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555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04800" y="1981080"/>
            <a:ext cx="35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555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5802-5645-40A3-A471-C8D6C16A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E1B-1556-4C11-9556-F26C4702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5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04800" y="1981080"/>
            <a:ext cx="3555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04800" y="4130640"/>
            <a:ext cx="3555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CCA5-0BC5-4174-A73D-A8D59E06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555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04800" y="1981080"/>
            <a:ext cx="3555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28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CB6F-87EB-494B-8F85-74F7F845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8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28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A473-CE5F-413E-BF76-160AD3FA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555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04800" y="1981080"/>
            <a:ext cx="3555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555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04800" y="4130640"/>
            <a:ext cx="3555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0AD4-39EA-4A96-9EA0-077954A2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4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34720" y="1981080"/>
            <a:ext cx="234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97840" y="1981080"/>
            <a:ext cx="234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34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34720" y="4130640"/>
            <a:ext cx="234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97840" y="4130640"/>
            <a:ext cx="234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DDAB-458B-4132-A28C-18308C46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D429-5926-4697-8350-9BE4D537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5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04800" y="1981080"/>
            <a:ext cx="35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5C56-45E1-4F27-8784-7DEC1934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AA19-D560-463E-AC98-EF926E0A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706-2CB2-445A-9F87-CB775BF1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555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4800" y="1981080"/>
            <a:ext cx="35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555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C548-D07C-4705-8114-4B4FB05F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5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4800" y="1981080"/>
            <a:ext cx="3555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04800" y="4130640"/>
            <a:ext cx="3555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FBD-D086-4CA1-AA7E-B419CFF9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555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04800" y="1981080"/>
            <a:ext cx="3555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28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C47-F525-4867-9CBC-F8DC7F0F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!STONEAR" descr=""/>
          <p:cNvPicPr/>
          <p:nvPr/>
        </p:nvPicPr>
        <p:blipFill>
          <a:blip r:embed="rId2"/>
          <a:srcRect l="30963" t="0" r="7391" b="-11099"/>
          <a:stretch/>
        </p:blipFill>
        <p:spPr>
          <a:xfrm>
            <a:off x="0" y="52560"/>
            <a:ext cx="9144000" cy="754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38080" y="228600"/>
            <a:ext cx="7772400" cy="13716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</a:t>
            </a:r>
            <a:fld id="{AC2DE962-64AB-45E1-A946-D5932EB65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!STONEAR" descr=""/>
          <p:cNvPicPr/>
          <p:nvPr/>
        </p:nvPicPr>
        <p:blipFill>
          <a:blip r:embed="rId2"/>
          <a:srcRect l="30963" t="0" r="7391" b="-11099"/>
          <a:stretch/>
        </p:blipFill>
        <p:spPr>
          <a:xfrm>
            <a:off x="0" y="0"/>
            <a:ext cx="9144000" cy="7542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</a:t>
            </a:r>
            <a:fld id="{7B037EA9-83DA-4500-AA37-023E99EE3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838080" y="914400"/>
            <a:ext cx="7772400" cy="13716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hapter 2: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etamorphosis of Inform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8288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the computer store inform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D5CE-AB70-402F-B881-3EC2497EDE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ation of Symbols and Tex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94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ore any kind of information in the computer’s memory, it must first be transformed into a binary numeric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 and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s characters, punctuation, symbols representing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symbol can be assigned a numeric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standardized sets of codes for symbol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American Standard Code for Information Inter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BCD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xtended Binary Coded Decimal Interchange Code.  NOT REALLY USED ANYMOR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I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Will discuss la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C89-5574-40BD-BA6F-61E74736D6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ation of Symbols and Tex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95480" y="2133720"/>
            <a:ext cx="182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- 01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- 0110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- 0110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- 0110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0110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- 0110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- 0110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 - 0110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- 011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 - 0111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- 0111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76920" y="2133720"/>
            <a:ext cx="182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- 1000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- 1000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- 1000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- 1000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- 1000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- 1000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 - 1000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 - 100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- 1001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 - 1001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- 1001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34320" y="2133720"/>
            <a:ext cx="182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- 1000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- 1000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- 1000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- 1000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- 1000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- 1000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 - 1000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 - 100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- 1001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 - 1001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- 1001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209680"/>
            <a:ext cx="2514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8040" indent="-33804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trl+@ - 00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trl+A - 0000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trl+B - 0000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trl+C - 0000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trl+D - 0000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trl+_x0008_E - 0000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trl+_x0008_F - 0000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trl+_x0008_G(Bell) - 0000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 - 01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- 111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0560" y="16765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tial listing of the ASCII character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A381-9E1C-4D17-BABF-AC1EB95AFE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ation of Imag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icture must be transformed into numeric form before it can be stored or manipulated by the compu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icture is subdivided into a grid of squares call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xe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picture element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squares are small enough, we will see a reasonably good im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E6B-94FF-4DA2-AB49-8D29A38049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ation of Imag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4419360"/>
            <a:ext cx="3047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picture with only black and white pixe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represents bla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represents wh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4400" y="2133720"/>
          <a:ext cx="2438280" cy="198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2438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4518000" y="22017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1828800"/>
            <a:ext cx="4648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5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010101010101010101011010110100100100011111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5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10101010101010101010010110100101100101000001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5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101010101010101010110110001010000101001010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5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1101101011011010110101100110010110100010001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5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1010010110100101101010001001100100101101010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5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101101100101011010101110110011001010010101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5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1010010011010110010010001001100110101010010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5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0101101100101100100101110110011001010100100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5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0101010101010011011010001001100010100001010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5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1010101010101100010010110010001101001110100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5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0101010101010001000101000101101000010000001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5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011010101001010011010001101001001110010110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5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1001010100100010100101100101101100001010000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5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1011010001001001001001011110101011010100101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5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1010000100010010010111110101111100101001001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5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010010100100010010101010111010101101001001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5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1001000010011001101111101011101010101000100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5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001001010010001101100001111011101101011010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5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0100000001001100100111111111110110111000000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5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100010101001001101100001010101110100001010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5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0010000100101101010011111111111111011101000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5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100010100110101010010001110111111010001001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5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0010010110001001001001111011110101101100100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5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10010000011101001001001011111111101100100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1FFB-3254-4931-B5D9-D9C015D1DE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ation of Imag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523880" y="1676520"/>
          <a:ext cx="322128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76520"/>
                    <a:ext cx="32212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952880" y="1676520"/>
            <a:ext cx="3245040" cy="36576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5334120"/>
            <a:ext cx="3429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by's picture with smaller pixels - more deta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5334120"/>
            <a:ext cx="3429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by's picture with 4 levels of gr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067-310C-4098-B47D-D82F18818E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ation of Imag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tographic quality images have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y-sc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ral shades between black and white are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level gray-scale means 4 shades are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pixel needs 2 bit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0 - represents wh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1 - represents light g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- represents dark g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- represents bla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6 level gray scale me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bits per pixel are needed for 256 shades of g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566880" cy="40100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015600" y="586728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6 levels of g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9DE8-7A0C-4A9A-AE86-98E1088D2C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ation of Imag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approaches to display col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Y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of four standard colors: cyan, magenta, yellow and black, in the printing indust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s three values per pix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number is used for each of the amounts of  Red, Green and Blue on the computer scre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“Modified”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number given per pixel to represent all three colo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566880" cy="40435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017040" y="586728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 color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E866-49E4-454E-94C1-24D9352849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ation of Imag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izer or 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evice that is used to convert an image to numbers representing a pixel form of the im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54A-2259-4403-A8DE-91835C24FB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uzzler – Arecibo Messag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66880" y="1676520"/>
            <a:ext cx="598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by Frank Drake, sent into space 19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79 bits, divisible only by 23 x 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ing in binary from 10 to 1 below, figure out sch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Explained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1451160" cy="4321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362320" y="4267080"/>
            <a:ext cx="6172200" cy="15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5AB5-22F7-45B7-8FE0-9C314E338B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ation of Sounds, Music and Speech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nds, Music and Spee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sound must be transformed into numeric form before it can be stored or manipulated by the compu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918-8C41-460E-BB15-BEE4B2B754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etamorphosis of Inform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le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the common types of information that can be manipulated by the comput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does the computer use binary numb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es the computer deal with numbers, text, pictures, sound, and progra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type of program manipulates text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E5B3-E909-4456-8756-1A67019270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ation of Sounds, Music and Speech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an be given numerical values in a piece of musi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notes are being play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the frequency of each no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rt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unit of measurement that indicates the number of cycles per second of a particular sound’s vib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an example, the sound of middle C is 256 Hert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empo of the music (beats per minut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s of the notes (half note, whole note, quarter note…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ld store the actual notes, instrument profile, all converted to binary (used in MID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554-E4F7-47D9-A29B-01B3E9D9B4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ation of Sounds, Music and Speech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 of any Sound by Digital Recor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ounds were divided into tiny segments and stored as binary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puter transforms these binary numbers and reproduces the volt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voltages are sent down the speaker wires to produce sou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STEREO" descr=""/>
          <p:cNvPicPr/>
          <p:nvPr/>
        </p:nvPicPr>
        <p:blipFill>
          <a:blip r:embed="rId1"/>
          <a:stretch/>
        </p:blipFill>
        <p:spPr>
          <a:xfrm>
            <a:off x="5334120" y="4267080"/>
            <a:ext cx="3124080" cy="2035440"/>
          </a:xfrm>
          <a:prstGeom prst="rect">
            <a:avLst/>
          </a:prstGeom>
          <a:ln w="0">
            <a:noFill/>
          </a:ln>
        </p:spPr>
      </p:pic>
      <p:pic>
        <p:nvPicPr>
          <p:cNvPr id="224" name="VOLTAGE" descr=""/>
          <p:cNvPicPr/>
          <p:nvPr/>
        </p:nvPicPr>
        <p:blipFill>
          <a:blip r:embed="rId2"/>
          <a:stretch/>
        </p:blipFill>
        <p:spPr>
          <a:xfrm>
            <a:off x="2133720" y="4495680"/>
            <a:ext cx="2743200" cy="175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5EF-F7C1-4B12-9F0D-A9A642A4D7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ation of Sounds, Music and Speech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ing natural sounding words and phr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emes of a particular language are chos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numbers are assigned to each phone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additional factors have an affect on how a word or phrase soun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l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nvolves the rising or falling pattern of pitch on an individual phone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ound factor affecting the way a particular word sou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i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connection of two or more phonemes sliced together so that when one ends, the next beg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CC0B-9E6E-47E3-8CA0-CCEFDC56C6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ing the Instructions of Program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s are imperative: they command 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instruction must be clearly understood by its intended recei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formation needed to process the instruction must be readily avail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obile’s fasten-seat-belt comm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way patrol officer’s pull-over comm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king recipe’s mix-ingredients-thoroughly instr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740-9026-4BF7-B90E-3A4B2BFBBA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ing the Instructions of Program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puter’s instructions must be stored in binary form within the computer before they can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collection or list of commands designed for a computer to follow, which gives some desired res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B6D4-FFE5-4352-A84C-1A6847EAE7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ing the Instructions of Program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Word H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o understand how a series of instructions can be stored in the computer as a group of binary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ruction 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pre-determined list of commands that comprise all of the possible instructions needed to perform a particular ta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ormat) of all Word Hunt instruction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TION 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: The “verb” that tells you what to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: The “object” modifies the verb telling you where, how much, or what the verb requi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2402-5322-4004-BDD5-713834C424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ing the Instructions of Program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d Hunt Instruction S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rn to page number design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ing down from line 1, count down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signated line number (line 1 is 1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nk lines don’t cou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 the number of words designated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ight (the first word is word 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ning with the word immediately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eft of your current position, cou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wards the number design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a copy of the word on a piec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essage is comple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843F-715E-44B2-87F3-94C518D488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ing the Instructions of Program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Word Hunt program puzz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30F-7F7D-4706-A1AF-B019DE23FB6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ing the Instructions of Program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209680" cy="1981440"/>
          </a:xfrm>
          <a:prstGeom prst="rect">
            <a:avLst/>
          </a:prstGeom>
          <a:noFill/>
          <a:ln w="9360">
            <a:solidFill>
              <a:srgbClr val="012597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WAR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2209680"/>
            <a:ext cx="1904760" cy="3753000"/>
          </a:xfrm>
          <a:prstGeom prst="rect">
            <a:avLst/>
          </a:prstGeom>
          <a:noFill/>
          <a:ln w="9360">
            <a:solidFill>
              <a:srgbClr val="012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  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  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  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57800" y="2209680"/>
            <a:ext cx="1371600" cy="3753000"/>
          </a:xfrm>
          <a:prstGeom prst="rect">
            <a:avLst/>
          </a:prstGeom>
          <a:noFill/>
          <a:ln w="9360">
            <a:solidFill>
              <a:srgbClr val="012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    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    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    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34320" y="2209680"/>
            <a:ext cx="2057400" cy="3753000"/>
          </a:xfrm>
          <a:prstGeom prst="rect">
            <a:avLst/>
          </a:prstGeom>
          <a:noFill/>
          <a:ln w="9360">
            <a:solidFill>
              <a:srgbClr val="012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0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0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0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1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1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11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0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1600200"/>
            <a:ext cx="83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922320"/>
                <a:tab algn="ctr" pos="3375000"/>
                <a:tab algn="ctr" pos="5322960"/>
                <a:tab algn="ctr" pos="725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d Hu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d Hu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922320"/>
                <a:tab algn="ctr" pos="3375000"/>
                <a:tab algn="ctr" pos="5322960"/>
                <a:tab algn="ctr" pos="725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ction Se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deci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bin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9051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1905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53080" y="19051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71EA-6AA8-46F4-9731-4E766E2FA3A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ing the Instructions of Program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ain differences between our Word Hunt program and a computer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puter’s program would have originally been written in a programming language, then be translated into binary code for the compu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instruction in the instruction set would have to be something that the computer was capable of do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data from one place to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the bits of a location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B93A-DD0B-414F-A2E3-ABDC26E01CC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 is Information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565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hess board dia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tellite photos of the surface of M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uel capacity of a  Boeing 74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arzan y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mputer pro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ngerprint files of a police depart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r name and addr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67280" y="2514600"/>
            <a:ext cx="3795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cript of Gone with the Wi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ach fugue in 4 pa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alue of ∏ (PI) to 100,000 decimal pla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cipe for Quiche Lorra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utomotive service handboo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r favorite so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cording of bird-cal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3440" y="188928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groups can you make of the follow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0A2B-286C-40C4-B5E1-73810C842B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ing the Instructions of Program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instruction sets differ, they all contain these classes of instru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thmetic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Movement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or Comparison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/Output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3B73-9BFC-4083-85B4-1E00124E073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209680" y="4495680"/>
            <a:ext cx="5410440" cy="1676520"/>
          </a:xfrm>
          <a:prstGeom prst="rect">
            <a:avLst/>
          </a:prstGeom>
          <a:solidFill>
            <a:srgbClr val="aeb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ing the Instructions of Program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nstructions must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peration Code): The part of the instructions that tells the computer what to 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“object” of the operation to be perform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If the operation is to add a number, then the operand will tell where to find the number that is to be ad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59400" y="457200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0 1 1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3886200" y="46479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4838760" y="43812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429000" y="5105520"/>
            <a:ext cx="5335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61240" y="5410080"/>
            <a:ext cx="10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028840" y="510552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05760" y="5410080"/>
            <a:ext cx="22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ress 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to be a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DAD3-BF37-4F7D-B0D1-77BB9F6BBA4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ing the Instructions of Program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the computer tell what this string of binary numbers is used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011010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struc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umb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ound’s frequenc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alue of a pixel in a gray-scale ima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SCII charact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the program that is active that determines the interpretation of the string of binary numbe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45C-ACE9-4BAB-A198-3E5629A624E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oftware Application: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ord Proces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 Processing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’ll skip this part, but please skim the section and read it more carefully if you are not familiar with word process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CCB2-79DB-496C-AC25-EF15DB17AC3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 is Information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ve types of information the computer commonly manipula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c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, the information must be transformed (converted) into an acceptable representation that the computer will accep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format: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D977-39D9-42E0-880D-5DF60D3260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 is Information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modern computers work with a system of numbers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nary nu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only two symbols: 0 and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nary circu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lectronic devices are cheapest and function most reliably if they assume only two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93200">
            <a:off x="1599840" y="5029200"/>
            <a:ext cx="152280" cy="380880"/>
          </a:xfrm>
          <a:prstGeom prst="parallelogram">
            <a:avLst>
              <a:gd name="adj" fmla="val 25000"/>
            </a:avLst>
          </a:prstGeom>
          <a:solidFill>
            <a:srgbClr val="aeba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4724280"/>
            <a:ext cx="228600" cy="1143000"/>
          </a:xfrm>
          <a:prstGeom prst="rect">
            <a:avLst/>
          </a:prstGeom>
          <a:solidFill>
            <a:srgbClr val="aeba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90920" y="4495680"/>
          <a:ext cx="1366560" cy="14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4495680"/>
                    <a:ext cx="136656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02" name=""/>
          <p:cNvCxnSpPr>
            <a:endCxn id="99" idx="2"/>
          </p:cNvCxnSpPr>
          <p:nvPr/>
        </p:nvCxnSpPr>
        <p:spPr>
          <a:xfrm rot="10800000">
            <a:off x="1485360" y="5866560"/>
            <a:ext cx="1867320" cy="5342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/>
          <p:nvPr/>
        </p:nvCxnSpPr>
        <p:spPr>
          <a:xfrm flipV="1">
            <a:off x="3352320" y="594324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99" idx="0"/>
          </p:cNvCxnSpPr>
          <p:nvPr/>
        </p:nvCxnSpPr>
        <p:spPr>
          <a:xfrm flipH="1" rot="16200000">
            <a:off x="1748520" y="4461480"/>
            <a:ext cx="1264320" cy="1789560"/>
          </a:xfrm>
          <a:prstGeom prst="bentConnector5">
            <a:avLst>
              <a:gd name="adj1" fmla="val -18086"/>
              <a:gd name="adj2" fmla="val 34064"/>
              <a:gd name="adj3" fmla="val 11808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9" idx="0"/>
            <a:endCxn id="99" idx="2"/>
          </p:cNvCxnSpPr>
          <p:nvPr/>
        </p:nvCxnSpPr>
        <p:spPr>
          <a:xfrm>
            <a:off x="1485720" y="4723920"/>
            <a:ext cx="108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 rot="7546200">
            <a:off x="6438600" y="5142960"/>
            <a:ext cx="152280" cy="381240"/>
          </a:xfrm>
          <a:prstGeom prst="parallelogram">
            <a:avLst>
              <a:gd name="adj" fmla="val 25000"/>
            </a:avLst>
          </a:prstGeom>
          <a:solidFill>
            <a:srgbClr val="aeba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4648320"/>
            <a:ext cx="228600" cy="1143000"/>
          </a:xfrm>
          <a:prstGeom prst="rect">
            <a:avLst/>
          </a:prstGeom>
          <a:solidFill>
            <a:srgbClr val="aeba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772400" y="4648320"/>
          <a:ext cx="7221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4648320"/>
                    <a:ext cx="7221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10" name=""/>
          <p:cNvCxnSpPr>
            <a:endCxn id="107" idx="2"/>
          </p:cNvCxnSpPr>
          <p:nvPr/>
        </p:nvCxnSpPr>
        <p:spPr>
          <a:xfrm rot="10800000">
            <a:off x="6361920" y="5790600"/>
            <a:ext cx="1867680" cy="5338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/>
          <p:nvPr/>
        </p:nvCxnSpPr>
        <p:spPr>
          <a:xfrm flipV="1">
            <a:off x="8229240" y="586692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7" idx="0"/>
          </p:cNvCxnSpPr>
          <p:nvPr/>
        </p:nvCxnSpPr>
        <p:spPr>
          <a:xfrm flipH="1" rot="16200000">
            <a:off x="6600600" y="4410000"/>
            <a:ext cx="1296000" cy="1772280"/>
          </a:xfrm>
          <a:prstGeom prst="bentConnector5">
            <a:avLst>
              <a:gd name="adj1" fmla="val -17643"/>
              <a:gd name="adj2" fmla="val 42990"/>
              <a:gd name="adj3" fmla="val 117643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75120" y="4923000"/>
            <a:ext cx="88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46640" y="4846680"/>
            <a:ext cx="82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878-3AC9-4B0D-8EC7-D80B1D8F0E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ation of Numb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56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hree-light sys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eight possible combinations of               on and o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be used to indicate the numbers 0, 1, 2, 3, 4, 5, 6, 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= 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= 0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=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= 0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= 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= 01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 = 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IGHT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3567240" cy="33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2E5A-97A8-4FC2-BBE2-B017B70BE3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ation of Numb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 numeration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10 symbols:  0, 1, 2, 3, 4, 5, 6, 7, 8,  and 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lace values of each position are powers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umber such as 1357 will be expanded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 (1 x 1000) + (3 x 100) + (5 x 10) + (7 x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357 in the decim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86000" y="3733920"/>
            <a:ext cx="4424760" cy="1447200"/>
            <a:chOff x="2286000" y="3733920"/>
            <a:chExt cx="4424760" cy="1447200"/>
          </a:xfrm>
        </p:grpSpPr>
        <p:sp>
          <p:nvSpPr>
            <p:cNvPr id="121" name=""/>
            <p:cNvSpPr/>
            <p:nvPr/>
          </p:nvSpPr>
          <p:spPr>
            <a:xfrm>
              <a:off x="2286000" y="3809880"/>
              <a:ext cx="4419720" cy="137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0" y="426708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0" y="472428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43600" y="380988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380988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14800" y="380988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00400" y="380988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0" y="380988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97680" y="3809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35560" y="3809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44840" y="3809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30440" y="3809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16040" y="3809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01880" y="3733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39760" y="3733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49400" y="3733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35000" y="3733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20600" y="3733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74000" y="4267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59240" y="4267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68880" y="42670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02200" y="42670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87440" y="42670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567240" y="4708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748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188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5032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A40-E896-4F4A-BD63-361DC918D9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ation of Numb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numeration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2 symbols:  0, and 1.   (Each is called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ry di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lace values of each position are powers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inary number such as 101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ll be expanded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(1 x 16) + (0 x 8) + (1 x 4) + (1 x 2) + (0 x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Only 22 in the decimal syste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3809880"/>
            <a:ext cx="44197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42670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47242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4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8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748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308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6868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1880" y="373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9760" y="373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9400" y="373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35000" y="373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20600" y="373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740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18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74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30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2360" y="4267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308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748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188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5032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868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FC4-4DE5-4C48-B756-3CCA1D6AC7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presentation of Numb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56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number has a unique repres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ing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you run out of digits, make it a zero and increment the next place value to the le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9 becomes 1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89680" y="1981080"/>
            <a:ext cx="35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65b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number has a unique repres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ing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you run out of digits, make it a zero and increment the next place value to the le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comes 10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9F4B-78DB-4104-86E3-E24EB2654F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6T12:15:56Z</dcterms:created>
  <dc:creator/>
  <dc:description/>
  <dc:language>en-US</dc:language>
  <cp:lastModifiedBy>Kenrick Mock</cp:lastModifiedBy>
  <cp:lastPrinted>2000-05-08T20:17:08Z</cp:lastPrinted>
  <dcterms:modified xsi:type="dcterms:W3CDTF">2001-08-27T06:35:26Z</dcterms:modified>
  <cp:revision>32</cp:revision>
  <dc:subject/>
  <dc:title>Chapter 2:  Metamorphosis of Information</dc:title>
</cp:coreProperties>
</file>